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52FA2-3642-4B25-9D26-433C0B0C0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1DC98-FFAC-4551-8D07-3C68BE466F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3C772-40D7-479F-A7C0-5385B0B67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0C6E5-0C50-4EF0-B766-4FB08D8F99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306D8-B0CF-4C1E-A259-47314D01E5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49A7D-ECEC-41E3-A3F9-3997A71A8B5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3CD82-B822-47ED-9953-670A7CBDA4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7AD5-A2E2-4183-9094-AA93B3E625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143E8-2393-4C02-8ECA-E757C4E6655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FBFE1-DE20-42A3-B011-8C7304A24F2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9113E-E819-499C-9C32-D940297551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C952E-8D2E-45A9-AE71-0E3247CA72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86899-1322-4F5C-A109-D9E6AD4DD8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7E3D-11F9-45CA-9F8F-8BB1228FE2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73988-D13D-4E06-AE99-FE31A69C8A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52DC9-7188-4261-8FE8-F80EF0F4AD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32D0-12E5-4CAF-8463-B13A6576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ADF6-34E1-4BFA-AA96-8D3E543C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A850-2BDD-4438-9D39-ADCAAE78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941-6DB2-4651-A460-7C3549F5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0FB0-0F89-4901-A6C1-40AD92BA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DDF-0672-485F-BDE7-A00483FD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563F-252D-48A1-BEA6-44F5CDD7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A5EE-97AE-4941-853E-9482C82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8C1A-5F69-467B-8C07-1D2D154E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E31B-0146-4556-BA65-1A63313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75F4-A4B8-43AA-9C12-A4FE79F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99A-9221-4892-898C-3DDE7DA0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D507-C200-474C-A401-FEB9097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2752-11F2-45B0-A5D8-5E5F160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8CE9-B9CD-4AAB-9AAA-FC8EA73E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5F3E-8EF9-42B8-BFC8-F714EA55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7FCC-47FB-41D6-AE99-0A78CB0D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156D-530A-4790-B877-723A8712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CE19-8145-4B73-A605-A5C334B7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770A-BABA-492E-9E35-CDF0B96F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8758-710C-419B-A265-FECBA13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049A-641E-4790-AF82-2679606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12C-E53E-47A9-AAE9-104D4513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B1ECD-F275-4A1B-856E-821DD65A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78152-C8B4-4B54-A800-4C985410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EF196-CCC9-4955-887D-89E6BF3D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79937-ECEA-4642-BE03-C32DE8A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11B07-EAA0-4AE9-9497-B5B69D4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0951E-9E34-4202-8ED3-A3DA6D20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E983D-85E0-47A9-AA8F-3138C85A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500AE-AD5A-41CA-99DF-D9A7C9D3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D41B-D77F-43A5-B94B-D2044433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AF84D-253F-4CCA-8DE6-4BF70917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8D5-A51C-482D-9D82-3FC5518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008B0-C19F-4EA6-AFDA-5632F75F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ECB0-8DD1-4E80-A1D4-E6D1C90C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00754-9458-4C2A-A9D7-9DA0BE55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67F6D-CDDE-422A-88EE-EE369173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66F5-DEC3-419C-B4CD-5A892E1E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A6B9-5742-4717-86A5-C913B1C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491C-CB2B-42E5-A0B2-4382F371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3237B-1880-48B6-A85E-84481ACE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002C-A081-46E7-AFB0-0BEBED44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D2AF-88DD-49B7-AC48-C05FB751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47F7-507B-4F74-8A5A-0EE974F3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B3F0-6BC9-41D0-9507-6B6B0AAA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B61D-FF2F-419F-9655-1C8934D6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431DE-2A81-44DE-9ABC-DFD4546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142B-949A-4A31-B998-1BFC2695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CA698-CCE9-49FF-A46F-916DBB44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F087D-D745-446C-A1A0-53B8D0D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455B-18FE-4FD9-84BE-B7266DFB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8F553-8007-4A7A-9295-43EABCB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0D65-1DBD-4A57-B4AA-4893EF0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834F-E486-4F26-8D02-2BB222DA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511-870A-4F44-84AB-4E9BEB40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DFED-B84B-407A-9EB0-DE02CC5D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DF2F-50F5-4313-95C6-03DD6077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962F7-76D9-46DE-AF34-805FE30A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F7F8-832C-4312-9954-79F6F1B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15D7-E620-4F5B-A3B6-0D67DD8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A1ED4-C8D4-4285-8C54-DE2E82B5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C68B8-C63A-476D-AECB-CEF7BB6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1E5A2-2580-446E-BF23-7FCF6F4E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829C-0F78-4341-B748-3BF13F94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E3ED-33EF-43DE-AF3B-FF644F12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47B2-0708-451A-905A-6D6D5B77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97B78-5BF8-493F-9F6D-C14E9EAE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E86E-1DA9-42F3-9BB2-D59CCA66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FA45-104D-4627-9EEF-737F922E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146EB-C5E8-4EB6-8CF2-A13037D1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0BFE5-FE71-4D41-A4E8-A39CE06C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40621-9260-4166-86E4-5F151BE7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30981-0A7A-4A12-A9E2-A79955C1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2F616-BA9D-4A59-A520-3CD96E5E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58C9B-1D0B-4497-9326-CB4C408F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C0DF-FBA7-445B-B034-061742B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D28-6C9C-4960-BE3D-7A89449C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EBF78-8A30-4A8C-A258-B67A9A0F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4E11-D36C-4D4A-961C-BBECC8C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4A163-8955-4CBC-AD3B-AB03B3EB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9FE4C-C431-4FC9-ABFF-0E686778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5A1BE-4267-4C36-B68E-5D5D183B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FC3-AB81-454C-ABA1-EE05DB2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56EE32-FA1A-4E0C-9363-73568E2F44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3C151E-A6FA-4E31-9131-1A54FFC0324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2E2AD8-E03E-4727-9F00-9135C32898C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09487F-7AB0-45BD-9B10-D8E7AB689D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8C8E0E-8F6E-4344-9D7E-AFB2BE2056E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195803-071E-4CB4-A2B7-FED436F037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F2F552-D185-40AA-8E7A-8BE16EE373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Box 1" descr=""/>
          <p:cNvPicPr/>
          <p:nvPr/>
        </p:nvPicPr>
        <p:blipFill>
          <a:blip r:embed="rId1"/>
          <a:stretch/>
        </p:blipFill>
        <p:spPr>
          <a:xfrm>
            <a:off x="1163520" y="2023920"/>
            <a:ext cx="7278840" cy="3114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 исполнению бюджета  Александровского сельсовета Советского района  Курской области за 2021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040" y="1928520"/>
            <a:ext cx="3352680" cy="1500120"/>
          </a:xfrm>
          <a:prstGeom prst="rect">
            <a:avLst/>
          </a:prstGeom>
          <a:solidFill>
            <a:srgbClr val="83d3fe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сполнение в 2021 году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850,0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713880" y="500040"/>
            <a:ext cx="7572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е Муниципальной программы «Развитие культуры в муниципальном образовании «Александровский сельсовет Советского района Курской области» за 2021 год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3" descr=""/>
          <p:cNvPicPr/>
          <p:nvPr/>
        </p:nvPicPr>
        <p:blipFill>
          <a:blip r:embed="rId1"/>
          <a:stretch/>
        </p:blipFill>
        <p:spPr>
          <a:xfrm>
            <a:off x="4840200" y="1785960"/>
            <a:ext cx="3449880" cy="77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192240" y="404640"/>
            <a:ext cx="8772480" cy="158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Заголовок 4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bd078"/>
          </a:solidFill>
          <a:ln w="15840">
            <a:solidFill>
              <a:srgbClr val="2d6b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Муниципальной программы «Обеспечение доступным и комфортным жильем и коммунальными услугами граждан в  МО «Александровский сельсовет Советского района Курской области»  за  2021 год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Блок-схема: перфолента 5"/>
          <p:cNvSpPr/>
          <p:nvPr/>
        </p:nvSpPr>
        <p:spPr>
          <a:xfrm>
            <a:off x="5508720" y="1430280"/>
            <a:ext cx="3311280" cy="129528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ndara"/>
              </a:rPr>
              <a:t>Цель программы - комплексное решение проблем благоустройства и улучшения внешнего вида территории поселения задач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8" name="Скругленный прямоугольник 8"/>
          <p:cNvGrpSpPr/>
          <p:nvPr/>
        </p:nvGrpSpPr>
        <p:grpSpPr>
          <a:xfrm>
            <a:off x="5742000" y="2724120"/>
            <a:ext cx="3309840" cy="1860480"/>
            <a:chOff x="5742000" y="2724120"/>
            <a:chExt cx="3309840" cy="1860480"/>
          </a:xfrm>
        </p:grpSpPr>
        <p:pic>
          <p:nvPicPr>
            <p:cNvPr id="419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5742000" y="2724120"/>
              <a:ext cx="33098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899320" y="2859120"/>
              <a:ext cx="300168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Задачи программы: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освещения улиц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 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благоустройства и озеленения территории поселения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содержание и ремонт дорожной сети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 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и содержание мест захоронения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прочих мероприятий по благоустройству поселения </a:t>
              </a: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Блок-схема: данные 9"/>
          <p:cNvSpPr/>
          <p:nvPr/>
        </p:nvSpPr>
        <p:spPr>
          <a:xfrm>
            <a:off x="5148360" y="4724280"/>
            <a:ext cx="3995640" cy="1584360"/>
          </a:xfrm>
          <a:prstGeom prst="flowChartInputOutput">
            <a:avLst/>
          </a:prstGeom>
          <a:solidFill>
            <a:srgbClr val="f5c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Ожидаемый результат: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увеличение уровня озеленения территории поселения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увеличение про инвентаризованных зеленых насаждений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очистки и благоустройство территории кладбищ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проведение организационно-хозяйственных мероприятий по сбору и вывозу мусора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Picture 33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2529000" cy="1643040"/>
          </a:xfrm>
          <a:prstGeom prst="rect">
            <a:avLst/>
          </a:prstGeom>
          <a:ln w="0">
            <a:noFill/>
          </a:ln>
        </p:spPr>
      </p:pic>
      <p:sp>
        <p:nvSpPr>
          <p:cNvPr id="423" name="Скругленный прямоугольник 11"/>
          <p:cNvSpPr/>
          <p:nvPr/>
        </p:nvSpPr>
        <p:spPr>
          <a:xfrm>
            <a:off x="2798640" y="3571920"/>
            <a:ext cx="25923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Исполнени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021го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72,3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16" descr="C:\Users\Irina\Desktop\усикова\IMG_1089.JPG"/>
          <p:cNvPicPr/>
          <p:nvPr/>
        </p:nvPicPr>
        <p:blipFill>
          <a:blip r:embed="rId3"/>
          <a:stretch/>
        </p:blipFill>
        <p:spPr>
          <a:xfrm>
            <a:off x="1071720" y="4572000"/>
            <a:ext cx="2392200" cy="1795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е Муниципальной программы «</a:t>
            </a:r>
            <a:r>
              <a:rPr b="1" lang="en-US" sz="14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оциальная  поддержка граждан в муниципальном образовании «Александровский сельсовет Советского района Курской области» за 2021 год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1"/>
          <p:cNvSpPr/>
          <p:nvPr/>
        </p:nvSpPr>
        <p:spPr>
          <a:xfrm>
            <a:off x="5786280" y="3071880"/>
            <a:ext cx="2428920" cy="16430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202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545,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Блок-схема: процесс 2"/>
          <p:cNvSpPr/>
          <p:nvPr/>
        </p:nvSpPr>
        <p:spPr>
          <a:xfrm flipV="1">
            <a:off x="5572080" y="2214360"/>
            <a:ext cx="3095640" cy="712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5786280" y="3071880"/>
            <a:ext cx="2428920" cy="16430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в  2021 году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552,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Муниципальной программы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Александровский сельсовет» Советского района Курской области» за 2021 год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2519280" cy="1760400"/>
          </a:xfrm>
          <a:prstGeom prst="rect">
            <a:avLst/>
          </a:prstGeom>
          <a:ln w="0">
            <a:noFill/>
          </a:ln>
        </p:spPr>
      </p:pic>
      <p:sp>
        <p:nvSpPr>
          <p:cNvPr id="431" name="Блок-схема: процесс 2"/>
          <p:cNvSpPr/>
          <p:nvPr/>
        </p:nvSpPr>
        <p:spPr>
          <a:xfrm>
            <a:off x="250920" y="1484280"/>
            <a:ext cx="3241440" cy="126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Цель программы – усиление мер по защите населения, объектов первоочередной значимости, от чрезвычайных ситуаций и угрозы их возникновения, а создание необходимых условий для укрепления пожарной безопасности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Прямоугольник 3"/>
          <p:cNvSpPr/>
          <p:nvPr/>
        </p:nvSpPr>
        <p:spPr>
          <a:xfrm>
            <a:off x="826920" y="2744640"/>
            <a:ext cx="3961080" cy="20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Задачи программы: - проведение воспитательной, пропагандистской работы с населением;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укрепление материально-технической базы подразделений пожарной охраны;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здание необходимых условий для укрепления пожарной безопасности на территории поселения, уменьшение гибели, травматизма людей и размера материальных потерь от пожаров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2"/>
          <a:stretch/>
        </p:blipFill>
        <p:spPr>
          <a:xfrm>
            <a:off x="5759280" y="4797360"/>
            <a:ext cx="2192400" cy="1608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64" descr=""/>
          <p:cNvPicPr/>
          <p:nvPr/>
        </p:nvPicPr>
        <p:blipFill>
          <a:blip r:embed="rId3"/>
          <a:stretch/>
        </p:blipFill>
        <p:spPr>
          <a:xfrm>
            <a:off x="6135840" y="5013360"/>
            <a:ext cx="720720" cy="70308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5"/>
          <p:cNvSpPr/>
          <p:nvPr/>
        </p:nvSpPr>
        <p:spPr>
          <a:xfrm>
            <a:off x="611280" y="5013360"/>
            <a:ext cx="4608360" cy="18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сновные мероприятия программы: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беспечение беспрепятственного проезда пожарной техники к месту забора воды (расчистка в зимнее время дорог, ремонт дорог)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рганизация пожарного водоснабжения населенных пунктов (строительство и оборудование пирсов, содержание противопожарных прорубей, установка указателей противопожарных водоемов, установка освещения противопожарных прорубей)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пашка и создание минерализованных полос вокруг населенных пунктов в пожароопасный период.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Скругленный прямоугольник 6"/>
          <p:cNvSpPr/>
          <p:nvPr/>
        </p:nvSpPr>
        <p:spPr>
          <a:xfrm>
            <a:off x="6012000" y="3645000"/>
            <a:ext cx="2520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нения в 2021 году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11,2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Муниципальной программы «Развитие и использование информационных и телекоммуникационных технологий в Администрации Александровского сельсовета Советского района Курской области за 2021 год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8" name="Picture 3" descr="C:\Users\Irina\Desktop\почта\img18.jpg"/>
          <p:cNvPicPr/>
          <p:nvPr/>
        </p:nvPicPr>
        <p:blipFill>
          <a:blip r:embed="rId1"/>
          <a:stretch/>
        </p:blipFill>
        <p:spPr>
          <a:xfrm>
            <a:off x="458640" y="155736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Users\Irina\Desktop\почта\smev.png"/>
          <p:cNvPicPr/>
          <p:nvPr/>
        </p:nvPicPr>
        <p:blipFill>
          <a:blip r:embed="rId2"/>
          <a:stretch/>
        </p:blipFill>
        <p:spPr>
          <a:xfrm>
            <a:off x="3635280" y="1397160"/>
            <a:ext cx="4303800" cy="2581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:\Users\Irina\Desktop\почта\img3.jpg"/>
          <p:cNvPicPr/>
          <p:nvPr/>
        </p:nvPicPr>
        <p:blipFill>
          <a:blip r:embed="rId3"/>
          <a:stretch/>
        </p:blipFill>
        <p:spPr>
          <a:xfrm>
            <a:off x="492120" y="3500280"/>
            <a:ext cx="3287880" cy="24670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1"/>
          <p:cNvSpPr/>
          <p:nvPr/>
        </p:nvSpPr>
        <p:spPr>
          <a:xfrm>
            <a:off x="4788000" y="4149720"/>
            <a:ext cx="3887640" cy="20160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я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в 2021 году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129,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сполнеИсполн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сполнение муниципальной программы «Повышение эффективности работы с молодежью, организация отдыха и оздоровления детей, молодежи, развитие физической культуры и спорта  в м.о. «Александровский сельсовет» Советского района Курской области» за 2021 год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6440" y="2679480"/>
            <a:ext cx="3466800" cy="1392120"/>
          </a:xfrm>
          <a:prstGeom prst="rect">
            <a:avLst/>
          </a:prstGeom>
          <a:solidFill>
            <a:srgbClr val="b9d6f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олнение в 2021 году  210,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45080" y="2679480"/>
            <a:ext cx="3927600" cy="2749320"/>
          </a:xfrm>
          <a:prstGeom prst="rect">
            <a:avLst/>
          </a:prstGeom>
          <a:solidFill>
            <a:srgbClr val="b9d6f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Создание условий  для укрепления здоровья населения,  популяризации массового спорта  и приобщения различных слоев населения к регулярным занятиям  физической  культурой и спортом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овышение роли физической культуры и спорта в формировании здорового образа  жизни населения муниципального образовани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Муниципальной  программы «Развитие и укрепление материально-технической базы муниципального образования «Александровский сельсовет»  Советского района Курской области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за 2021 год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Прямоугольник 1"/>
          <p:cNvSpPr/>
          <p:nvPr/>
        </p:nvSpPr>
        <p:spPr>
          <a:xfrm>
            <a:off x="6494400" y="1703520"/>
            <a:ext cx="230364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2021 году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518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1500120" y="2857680"/>
            <a:ext cx="3786120" cy="314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Автоматизация  работ и услуг, улучшение качества предоставляемой отчетности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- материально-техническое обеспечение учреждений муниципального образования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-формирование имиджа Александровский 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Picture 15" descr=""/>
          <p:cNvPicPr/>
          <p:nvPr/>
        </p:nvPicPr>
        <p:blipFill>
          <a:blip r:embed="rId1"/>
          <a:stretch/>
        </p:blipFill>
        <p:spPr>
          <a:xfrm>
            <a:off x="5962680" y="3252960"/>
            <a:ext cx="3155760" cy="2097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"/>
          <p:cNvPicPr/>
          <p:nvPr/>
        </p:nvPicPr>
        <p:blipFill>
          <a:blip r:embed="rId2"/>
          <a:stretch/>
        </p:blipFill>
        <p:spPr>
          <a:xfrm>
            <a:off x="6494400" y="5529240"/>
            <a:ext cx="1965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40464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н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й  программы «Развитие муниципальной службы в муниципальном образовании «Александровский сельсовет» Советского района Курской области»         за  2021 год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Блок-схема: процесс 1"/>
          <p:cNvSpPr/>
          <p:nvPr/>
        </p:nvSpPr>
        <p:spPr>
          <a:xfrm>
            <a:off x="6732720" y="2421000"/>
            <a:ext cx="1417680" cy="1079280"/>
          </a:xfrm>
          <a:prstGeom prst="flowChartProcess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сполнения за 2021 год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0,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Блок-схема: процесс 3"/>
          <p:cNvSpPr/>
          <p:nvPr/>
        </p:nvSpPr>
        <p:spPr>
          <a:xfrm>
            <a:off x="1042920" y="1413000"/>
            <a:ext cx="3313080" cy="2376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вышение эффективности и качества муниципального управления при помощи системы профессиональной подготовки, переподготовки, повышения квалификации, а также иных форм обучения муниципальных служащих, ориентированных на решение практических задач органов местного самоуправления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4"/>
          <p:cNvSpPr/>
          <p:nvPr/>
        </p:nvSpPr>
        <p:spPr>
          <a:xfrm>
            <a:off x="1187280" y="4149720"/>
            <a:ext cx="5905800" cy="177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Реализация современных программ переподготовки и повышения квалификации кадров муниципальной службы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вершенствование системы профессионального развития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вышение эффективности работы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здание ориентированной на решение практических задач местного самоуправления системы профессиональной переподготовки, повышения квалификации и стажировки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8" descr=""/>
          <p:cNvPicPr/>
          <p:nvPr/>
        </p:nvPicPr>
        <p:blipFill>
          <a:blip r:embed="rId1"/>
          <a:stretch/>
        </p:blipFill>
        <p:spPr>
          <a:xfrm>
            <a:off x="4716360" y="2178000"/>
            <a:ext cx="1644840" cy="1565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2"/>
          <a:stretch/>
        </p:blipFill>
        <p:spPr>
          <a:xfrm>
            <a:off x="7020000" y="3478320"/>
            <a:ext cx="1904760" cy="278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ЛОССАРИЙ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60200" y="1143000"/>
            <a:ext cx="8659800" cy="542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БЮДЖЕТ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форма образования и расходования денежных средств, предназначенных для финансового обеспечения задач и функций местного самоуправления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Бюджетный процесс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регламентируемая законодательством Российской Федерации деятельность органов местного самоуправления и иных участников бюджетного процесса по составлению и рассмотрению проекта бюджета, утверждению и исполнению бюджета, контролю за его исполнением, осуществлению бюджетного учета, составлению, внешней проверке и, рассмотрению и утверждению бюджетной отчетности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Межбюджетные трансферты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средства, предоставляемые одним бюджетом бюджетной системы Российской Федерации другому бюджету бюджетной системы Российской Федерации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Муниципальная программа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документ определяющий, цели и задачи муниципальной политики в определенной сфере, способы их достижения, примерные объемы используемых финансовых результатов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Непрограммные направления деятельности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не включенные в муниципальные программы направления деятельности органов местного самоуправления и органов местной администрации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Блок-схема: процесс 3"/>
          <p:cNvSpPr/>
          <p:nvPr/>
        </p:nvSpPr>
        <p:spPr>
          <a:xfrm>
            <a:off x="468360" y="260280"/>
            <a:ext cx="8207280" cy="1368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Непрограммная деятельность органов местного самоуправления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Муниципального образования  «Александровский сельсовет» Советского района Курской области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за 2021  год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Блок-схема: процесс 4"/>
          <p:cNvSpPr/>
          <p:nvPr/>
        </p:nvSpPr>
        <p:spPr>
          <a:xfrm>
            <a:off x="468360" y="1773360"/>
            <a:ext cx="2448000" cy="9712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Обеспечение функционирования высшего должностного лица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Блок-схема: процесс 5"/>
          <p:cNvSpPr/>
          <p:nvPr/>
        </p:nvSpPr>
        <p:spPr>
          <a:xfrm>
            <a:off x="455760" y="2911320"/>
            <a:ext cx="3168360" cy="9828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беспечение функционирования местных администраций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Блок-схема: процесс 6"/>
          <p:cNvSpPr/>
          <p:nvPr/>
        </p:nvSpPr>
        <p:spPr>
          <a:xfrm>
            <a:off x="434880" y="4129200"/>
            <a:ext cx="3095640" cy="828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существление первичного воинского учета на территориях, где отсутствуют военные комиссариат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Блок-схема: процесс 7"/>
          <p:cNvSpPr/>
          <p:nvPr/>
        </p:nvSpPr>
        <p:spPr>
          <a:xfrm>
            <a:off x="455760" y="5253120"/>
            <a:ext cx="2282760" cy="612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Реализация мероприятий по распространению официальной информаци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Стрелка вправо 8"/>
          <p:cNvSpPr/>
          <p:nvPr/>
        </p:nvSpPr>
        <p:spPr>
          <a:xfrm>
            <a:off x="3409920" y="201600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Стрелка вправо 9"/>
          <p:cNvSpPr/>
          <p:nvPr/>
        </p:nvSpPr>
        <p:spPr>
          <a:xfrm>
            <a:off x="3843360" y="306864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Стрелка вправо 10"/>
          <p:cNvSpPr/>
          <p:nvPr/>
        </p:nvSpPr>
        <p:spPr>
          <a:xfrm>
            <a:off x="3624120" y="424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Стрелка вправо 11"/>
          <p:cNvSpPr/>
          <p:nvPr/>
        </p:nvSpPr>
        <p:spPr>
          <a:xfrm>
            <a:off x="3041640" y="531648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Блок-схема: перфолента 12"/>
          <p:cNvSpPr/>
          <p:nvPr/>
        </p:nvSpPr>
        <p:spPr>
          <a:xfrm>
            <a:off x="7070760" y="1773360"/>
            <a:ext cx="914400" cy="80460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ndara"/>
              </a:rPr>
              <a:t>593,6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Блок-схема: перфолента 13"/>
          <p:cNvSpPr/>
          <p:nvPr/>
        </p:nvSpPr>
        <p:spPr>
          <a:xfrm>
            <a:off x="5985000" y="266688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1489,8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Блок-схема: перфолента 14"/>
          <p:cNvSpPr/>
          <p:nvPr/>
        </p:nvSpPr>
        <p:spPr>
          <a:xfrm>
            <a:off x="7070760" y="373860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89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Блок-схема: перфолента 15"/>
          <p:cNvSpPr/>
          <p:nvPr/>
        </p:nvSpPr>
        <p:spPr>
          <a:xfrm>
            <a:off x="5986440" y="499752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14,4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</a:rPr>
              <a:t>Бюджет для граждан» познакомит вас об исполнении бюджета Александровского сельсовета Советского района Курской области  за  2021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Александров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Н. Митирёва  - глава администрации  Александровского сельсов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Д. Сорокина – начальник отдела бухгалтерского учета и отчетности Администрации Александровского сельсов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 Александ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07, Курская область, Советский район д. Александр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Александр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4-3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4-3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aleksovet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900000" y="2398680"/>
            <a:ext cx="59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льского поселения !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684360" y="289080"/>
            <a:ext cx="8064360" cy="630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важаемые жител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Александровского сельсовета!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Представляем Вашему вниманию информационный материал 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«Бюджет для граждан»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который в доступной форме познакомит Вас с исполнением основного финансового документа Александровского сельсовета Советского района  Курской област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за 2021 го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Text Box 2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8261280" cy="60418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4863960"/>
            <a:ext cx="140328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1295280" y="3584520"/>
            <a:ext cx="1393920" cy="110484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Рассмотрение</a:t>
            </a:r>
            <a:r>
              <a:rPr b="1" lang="ru-RU" sz="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оек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на очередной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 и плановый период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2738520" y="2565360"/>
            <a:ext cx="136836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Утверждение</a:t>
            </a:r>
            <a:r>
              <a:rPr b="1" lang="ru-RU" sz="9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оек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на очередной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 и плановый период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4211640" y="1650960"/>
            <a:ext cx="122400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е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в текущем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у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6012000" y="1650960"/>
            <a:ext cx="143964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Формировани</a:t>
            </a:r>
            <a:r>
              <a:rPr b="1" lang="ru-RU" sz="900" spc="-1" strike="noStrike">
                <a:solidFill>
                  <a:srgbClr val="000000"/>
                </a:solidFill>
                <a:latin typeface="Candara"/>
              </a:rPr>
              <a:t>е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отчета об исполнении бюдже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едыдущего год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435640" y="3075120"/>
            <a:ext cx="2665440" cy="156204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Утверждение отчета об исполнении бюджет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Предыдущего год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5-конечная звезда 8"/>
          <p:cNvSpPr/>
          <p:nvPr/>
        </p:nvSpPr>
        <p:spPr>
          <a:xfrm>
            <a:off x="1835280" y="2637000"/>
            <a:ext cx="576000" cy="64764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5-конечная звезда 9"/>
          <p:cNvSpPr/>
          <p:nvPr/>
        </p:nvSpPr>
        <p:spPr>
          <a:xfrm>
            <a:off x="7596360" y="2276640"/>
            <a:ext cx="504720" cy="50472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5-конечная звезда 10"/>
          <p:cNvSpPr/>
          <p:nvPr/>
        </p:nvSpPr>
        <p:spPr>
          <a:xfrm>
            <a:off x="826920" y="4076640"/>
            <a:ext cx="468360" cy="56052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5-конечная звезда 11"/>
          <p:cNvSpPr/>
          <p:nvPr/>
        </p:nvSpPr>
        <p:spPr>
          <a:xfrm>
            <a:off x="3346560" y="1650960"/>
            <a:ext cx="361800" cy="45720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5-конечная звезда 12"/>
          <p:cNvSpPr/>
          <p:nvPr/>
        </p:nvSpPr>
        <p:spPr>
          <a:xfrm>
            <a:off x="5292720" y="1197000"/>
            <a:ext cx="816120" cy="45396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468360" y="12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-181080" y="12600"/>
            <a:ext cx="932508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обственные - НАЛОГОВЫЕ и НЕНАЛОГОВЫЕ ДОХОДЫ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безвозмездные поступления от других бюджетов бюджетной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системы РФ  - ДОТАЦИИ, СУБСИДИИ, СУБВЕНЦИИ, иные межбюджетные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трансферты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совокупность средств, направляемых на оказание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государственных (муниципальных)  услуг, социальное         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обеспечение населения, бюджетные инвестиции, предоставление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межбюджетных трансфертов, обслуживание     государственного (муниципального) долга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основополагающее требование, предъявляемое к органам,         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составляющим и утверждающим бюдже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                                            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    принимается решение об источниках покрытия                                                превышение доходов над расходами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дефицита- использовать  остатки ,взять в долг  )                                                  (принимается решение об использовании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доходов-накапливать резервы, остатки, погашать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лг</a:t>
            </a:r>
            <a:r>
              <a:rPr b="0" lang="ru-RU" sz="9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Овал 1"/>
          <p:cNvSpPr/>
          <p:nvPr/>
        </p:nvSpPr>
        <p:spPr>
          <a:xfrm>
            <a:off x="179280" y="758880"/>
            <a:ext cx="1698840" cy="13698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Доходы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бюдж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Штриховая стрелка вправо 3"/>
          <p:cNvSpPr/>
          <p:nvPr/>
        </p:nvSpPr>
        <p:spPr>
          <a:xfrm>
            <a:off x="1639800" y="1746360"/>
            <a:ext cx="79236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Штриховая стрелка вправо 4"/>
          <p:cNvSpPr/>
          <p:nvPr/>
        </p:nvSpPr>
        <p:spPr>
          <a:xfrm>
            <a:off x="1971720" y="1136520"/>
            <a:ext cx="977760" cy="4860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Овал 5"/>
          <p:cNvSpPr/>
          <p:nvPr/>
        </p:nvSpPr>
        <p:spPr>
          <a:xfrm>
            <a:off x="0" y="2635200"/>
            <a:ext cx="25002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Расходы</a:t>
            </a:r>
            <a:r>
              <a:rPr b="1" lang="ru-RU" sz="1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бюджета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Стрелка вправо 6"/>
          <p:cNvSpPr/>
          <p:nvPr/>
        </p:nvSpPr>
        <p:spPr>
          <a:xfrm>
            <a:off x="2425680" y="2679840"/>
            <a:ext cx="523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Овал 7"/>
          <p:cNvSpPr/>
          <p:nvPr/>
        </p:nvSpPr>
        <p:spPr>
          <a:xfrm>
            <a:off x="0" y="3789360"/>
            <a:ext cx="2670120" cy="1224000"/>
          </a:xfrm>
          <a:prstGeom prst="ellips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Сбалансированность </a:t>
            </a:r>
            <a:r>
              <a:rPr b="1" lang="ru-RU" sz="1400" spc="-1" strike="noStrike">
                <a:solidFill>
                  <a:srgbClr val="262626"/>
                </a:solidFill>
                <a:latin typeface="Candara"/>
              </a:rPr>
              <a:t>бюджета по доходам и расходам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Стрелка вправо с вырезом 8"/>
          <p:cNvSpPr/>
          <p:nvPr/>
        </p:nvSpPr>
        <p:spPr>
          <a:xfrm>
            <a:off x="2521080" y="42163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Трапеция 12"/>
          <p:cNvSpPr/>
          <p:nvPr/>
        </p:nvSpPr>
        <p:spPr>
          <a:xfrm>
            <a:off x="420840" y="5300640"/>
            <a:ext cx="1217520" cy="1216080"/>
          </a:xfrm>
          <a:prstGeom prst="pi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Дефицит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Трапеция 13"/>
          <p:cNvSpPr/>
          <p:nvPr/>
        </p:nvSpPr>
        <p:spPr>
          <a:xfrm>
            <a:off x="4678200" y="5300640"/>
            <a:ext cx="1221120" cy="1216080"/>
          </a:xfrm>
          <a:prstGeom prst="pi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Профици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539640" y="3618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Исполнения бюджета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2021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55640" y="1714680"/>
          <a:ext cx="7140600" cy="4082760"/>
        </p:xfrm>
        <a:graphic>
          <a:graphicData uri="http://schemas.openxmlformats.org/drawingml/2006/table">
            <a:tbl>
              <a:tblPr/>
              <a:tblGrid>
                <a:gridCol w="4905360"/>
                <a:gridCol w="2235240"/>
              </a:tblGrid>
              <a:tr h="400320">
                <a:tc>
                  <a:txBody>
                    <a:bodyPr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3366"/>
                          </a:solidFill>
                          <a:latin typeface="Times New Roman"/>
                          <a:ea typeface="Microsoft YaHei"/>
                        </a:rPr>
                        <a:t>(тыс. рублей)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, в т.ч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6436b"/>
                          </a:solidFill>
                          <a:latin typeface="Calibri"/>
                        </a:rPr>
                        <a:t>6477,5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236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и на совокупный дох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461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и на имущество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67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73e87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Picture 23" descr=""/>
          <p:cNvPicPr/>
          <p:nvPr/>
        </p:nvPicPr>
        <p:blipFill>
          <a:blip r:embed="rId1"/>
          <a:stretch/>
        </p:blipFill>
        <p:spPr>
          <a:xfrm>
            <a:off x="1500120" y="1071720"/>
            <a:ext cx="6624720" cy="4856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0" y="189000"/>
            <a:ext cx="9144000" cy="1008000"/>
          </a:xfrm>
          <a:prstGeom prst="rect">
            <a:avLst/>
          </a:prstGeom>
          <a:solidFill>
            <a:srgbClr val="05e0db"/>
          </a:solidFill>
          <a:ln w="15840">
            <a:solidFill>
              <a:srgbClr val="0273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Безвозмездные поступления бюджет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за 2021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324000" y="1413000"/>
            <a:ext cx="324000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Дотац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без определения конкретной цели их использования;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160200" y="2448000"/>
            <a:ext cx="381636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убсид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на финансирование «переданных» другим публично – правовым образованиям полномочий;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160200" y="3603600"/>
            <a:ext cx="3672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убвенц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на условиях долевого софинансирования расходов других бюджетов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Стрелка вправо 6"/>
          <p:cNvSpPr/>
          <p:nvPr/>
        </p:nvSpPr>
        <p:spPr>
          <a:xfrm>
            <a:off x="3895560" y="1539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Стрелка вправо 8"/>
          <p:cNvSpPr/>
          <p:nvPr/>
        </p:nvSpPr>
        <p:spPr>
          <a:xfrm>
            <a:off x="4162320" y="245916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Стрелка вправо 9"/>
          <p:cNvSpPr/>
          <p:nvPr/>
        </p:nvSpPr>
        <p:spPr>
          <a:xfrm>
            <a:off x="4035600" y="3638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Блок-схема: перфолента 11"/>
          <p:cNvSpPr/>
          <p:nvPr/>
        </p:nvSpPr>
        <p:spPr>
          <a:xfrm>
            <a:off x="5979960" y="1379520"/>
            <a:ext cx="1943280" cy="64440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979,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Блок-схема: перфолента 12"/>
          <p:cNvSpPr/>
          <p:nvPr/>
        </p:nvSpPr>
        <p:spPr>
          <a:xfrm>
            <a:off x="5883120" y="2298600"/>
            <a:ext cx="1584360" cy="64476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869,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Блок-схема: перфолента 13"/>
          <p:cNvSpPr/>
          <p:nvPr/>
        </p:nvSpPr>
        <p:spPr>
          <a:xfrm>
            <a:off x="6222960" y="3382920"/>
            <a:ext cx="1440000" cy="44136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89,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Блок-схема: перфолента 14"/>
          <p:cNvSpPr/>
          <p:nvPr/>
        </p:nvSpPr>
        <p:spPr>
          <a:xfrm>
            <a:off x="5065560" y="6053040"/>
            <a:ext cx="3754440" cy="689040"/>
          </a:xfrm>
          <a:prstGeom prst="flowChartPunchedTape">
            <a:avLst/>
          </a:prstGeom>
          <a:solidFill>
            <a:srgbClr val="05e0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Итого: 2694,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Блок-схема: процесс 15"/>
          <p:cNvSpPr/>
          <p:nvPr/>
        </p:nvSpPr>
        <p:spPr>
          <a:xfrm>
            <a:off x="69840" y="4643280"/>
            <a:ext cx="3672000" cy="6130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ные межбюджетные трансферты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Стрелка вправо 17"/>
          <p:cNvSpPr/>
          <p:nvPr/>
        </p:nvSpPr>
        <p:spPr>
          <a:xfrm>
            <a:off x="4334040" y="467676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Блок-схема: перфолента 19"/>
          <p:cNvSpPr/>
          <p:nvPr/>
        </p:nvSpPr>
        <p:spPr>
          <a:xfrm>
            <a:off x="5500800" y="4357800"/>
            <a:ext cx="2238120" cy="80460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757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108000" y="0"/>
            <a:ext cx="8712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бюджета Александровскогосельсовета  по основным направлениям исполнения расходов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 2021год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60" descr=""/>
          <p:cNvPicPr/>
          <p:nvPr/>
        </p:nvPicPr>
        <p:blipFill>
          <a:blip r:embed="rId1"/>
          <a:stretch/>
        </p:blipFill>
        <p:spPr>
          <a:xfrm>
            <a:off x="7174080" y="920880"/>
            <a:ext cx="1441440" cy="1969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2" descr=""/>
          <p:cNvPicPr/>
          <p:nvPr/>
        </p:nvPicPr>
        <p:blipFill>
          <a:blip r:embed="rId2"/>
          <a:stretch/>
        </p:blipFill>
        <p:spPr>
          <a:xfrm>
            <a:off x="5724360" y="2139840"/>
            <a:ext cx="1192320" cy="782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3" descr=""/>
          <p:cNvPicPr/>
          <p:nvPr/>
        </p:nvPicPr>
        <p:blipFill>
          <a:blip r:embed="rId3"/>
          <a:stretch/>
        </p:blipFill>
        <p:spPr>
          <a:xfrm>
            <a:off x="6615000" y="2924280"/>
            <a:ext cx="604800" cy="531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4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5" descr=""/>
          <p:cNvPicPr/>
          <p:nvPr/>
        </p:nvPicPr>
        <p:blipFill>
          <a:blip r:embed="rId5"/>
          <a:stretch/>
        </p:blipFill>
        <p:spPr>
          <a:xfrm>
            <a:off x="6675480" y="3817800"/>
            <a:ext cx="736560" cy="633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6" descr=""/>
          <p:cNvPicPr/>
          <p:nvPr/>
        </p:nvPicPr>
        <p:blipFill>
          <a:blip r:embed="rId6"/>
          <a:stretch/>
        </p:blipFill>
        <p:spPr>
          <a:xfrm>
            <a:off x="5796000" y="4387680"/>
            <a:ext cx="647640" cy="520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7" descr=""/>
          <p:cNvPicPr/>
          <p:nvPr/>
        </p:nvPicPr>
        <p:blipFill>
          <a:blip r:embed="rId7"/>
          <a:stretch/>
        </p:blipFill>
        <p:spPr>
          <a:xfrm>
            <a:off x="5719680" y="5157720"/>
            <a:ext cx="955800" cy="530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8" descr=""/>
          <p:cNvPicPr/>
          <p:nvPr/>
        </p:nvPicPr>
        <p:blipFill>
          <a:blip r:embed="rId8"/>
          <a:stretch/>
        </p:blipFill>
        <p:spPr>
          <a:xfrm>
            <a:off x="6059520" y="5950080"/>
            <a:ext cx="111456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468360" y="1071720"/>
          <a:ext cx="5183280" cy="5025960"/>
        </p:xfrm>
        <a:graphic>
          <a:graphicData uri="http://schemas.openxmlformats.org/drawingml/2006/table">
            <a:tbl>
              <a:tblPr/>
              <a:tblGrid>
                <a:gridCol w="576360"/>
                <a:gridCol w="2158920"/>
                <a:gridCol w="244800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89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7723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97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921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9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89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9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1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01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787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0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85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7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52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8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10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Заголовок 4"/>
          <p:cNvGrpSpPr/>
          <p:nvPr/>
        </p:nvGrpSpPr>
        <p:grpSpPr>
          <a:xfrm>
            <a:off x="450720" y="328680"/>
            <a:ext cx="8242560" cy="1268280"/>
            <a:chOff x="450720" y="328680"/>
            <a:chExt cx="8242560" cy="1268280"/>
          </a:xfrm>
        </p:grpSpPr>
        <p:pic>
          <p:nvPicPr>
            <p:cNvPr id="405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450720" y="328680"/>
              <a:ext cx="82425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57200" y="338040"/>
              <a:ext cx="82296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ndara"/>
                </a:rPr>
                <a:t>Исполнения</a:t>
              </a:r>
              <a:br>
                <a:rPr sz="1200"/>
              </a:br>
              <a:r>
                <a:rPr b="1" lang="ru-RU" sz="1200" spc="-1" strike="noStrike">
                  <a:solidFill>
                    <a:srgbClr val="000000"/>
                  </a:solidFill>
                  <a:latin typeface="Candara"/>
                </a:rPr>
                <a:t>Муниципальной  программы «Энергосбережение и повышение энергетической эффективности в муниципальном образовании «Александровский сельсовет» Советского района Курской области» за 2021 год</a:t>
              </a:r>
              <a:br>
                <a:rPr sz="1200"/>
              </a:b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7" name="Picture 5" descr="C:\Users\Irina\Desktop\почта\064 (2).jpg"/>
          <p:cNvPicPr/>
          <p:nvPr/>
        </p:nvPicPr>
        <p:blipFill>
          <a:blip r:embed="rId2"/>
          <a:stretch/>
        </p:blipFill>
        <p:spPr>
          <a:xfrm>
            <a:off x="539640" y="1916280"/>
            <a:ext cx="4505400" cy="3184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C:\Users\Irina\Desktop\почта\064 (1).jpg"/>
          <p:cNvPicPr/>
          <p:nvPr/>
        </p:nvPicPr>
        <p:blipFill>
          <a:blip r:embed="rId3"/>
          <a:stretch/>
        </p:blipFill>
        <p:spPr>
          <a:xfrm>
            <a:off x="539640" y="1916280"/>
            <a:ext cx="4505400" cy="3184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C:\Users\Irina\Desktop\почта\064.jpg"/>
          <p:cNvPicPr/>
          <p:nvPr/>
        </p:nvPicPr>
        <p:blipFill>
          <a:blip r:embed="rId4"/>
          <a:stretch/>
        </p:blipFill>
        <p:spPr>
          <a:xfrm>
            <a:off x="0" y="1989000"/>
            <a:ext cx="4505400" cy="31845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с двумя вырезанными соседними углами 1"/>
          <p:cNvSpPr/>
          <p:nvPr/>
        </p:nvSpPr>
        <p:spPr>
          <a:xfrm>
            <a:off x="5508720" y="2276640"/>
            <a:ext cx="3166920" cy="143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Исполн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в 2021году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63,4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Блок-схема: процесс 2"/>
          <p:cNvSpPr/>
          <p:nvPr/>
        </p:nvSpPr>
        <p:spPr>
          <a:xfrm>
            <a:off x="4387680" y="4200480"/>
            <a:ext cx="4730760" cy="23241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улучшение качества жизни и благосостояния населения Александровского сельсовета Советского район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совершенствование нормативных и правовых условий для поддержки энергосбережения и повышения энергетической эффективности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лимитированные и нормирование энергопотребления в бюджетной сфере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широкая пропаганда энергосбережения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повышение эффективности использования энергетических ресурсов Александровского сельсовета Советского района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снижение финансовой нагрузки на бюджет за счет сокращения платежей за  воду, топливо и электрическую энергию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user</dc:creator>
  <dc:description/>
  <dc:language>en-US</dc:language>
  <cp:lastModifiedBy>Name</cp:lastModifiedBy>
  <dcterms:modified xsi:type="dcterms:W3CDTF">2022-05-31T12:08:23Z</dcterms:modified>
  <cp:revision>552</cp:revision>
  <dc:subject/>
  <dc:title>Слайд 1</dc:title>
</cp:coreProperties>
</file>