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13EA9-966C-4456-96F0-83CC7D8155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69988-AF2C-4D28-936F-4AAE06C57D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3DEC7-0FCB-4800-B2CD-E6DEF345A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42283-948F-4ACD-9E03-99D46763B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34964-98B0-406B-AB61-1176A0351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5FCE1-904C-4457-882B-47BC72F48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51DD1-2083-47B2-84CB-7276CE745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235DC-A8B1-4A31-8B6C-85A587A48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59BF4-D055-4E66-9458-71D5CC7FF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7D003-E2DF-4B32-92BD-7EAC59407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1E053-E5D1-4BD1-A4DB-9501EC579B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91C8C-97E1-4916-B870-2B22A95DF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9B48D-23DB-47AD-9AFA-D38973461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D9538-0459-4E35-A5F9-96985BEFB7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C488B-5B82-4733-82DA-27B6F025D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7ADEF-6957-4F6F-B1A6-30F39FAFD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CFB-404A-42B8-8047-21A6CEF7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F76-FC50-473E-BC7B-2AD94D9E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B20-40FD-49E9-875A-CCEF7656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EE5-816C-4E0B-BB0B-83201E18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4986-0217-45A8-A6EF-A5D18C3E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4CEE-7C4F-4C9D-814B-39A70C3E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ABF9-914D-4490-957B-A02F48AB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E03-3FDB-45D6-8511-F50B2458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13FD-0881-468C-804C-EDDA0437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D6E4-30EF-4AEF-A26C-C415707F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5303-6ADC-4F19-9475-36F0CEAF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1769-3CA6-41C3-A941-FAF463F4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F5C9-7707-42BD-885A-F09959DF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DB42-FEAE-4179-9E81-03D059C5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EB9D-526D-4A5B-8941-8FEDABFB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7B4C-D359-4DF9-A1DF-9E62C554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5BB3-1B6E-417D-86DA-7BB2A025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3253-97FE-496A-B883-2F0820E4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8BE1F-A45E-4936-AADF-FF0B7832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3EC2-2D8C-4D23-B26A-7CDF01FF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9D9A-4C09-42BC-B69A-86D0771B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8C18-63E2-4808-B69A-AD84D3A2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D41-5F89-4DA1-AAEA-A62CF4D3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21513-20BB-4997-9B60-65D0AD5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FF22-94DC-4336-B4CA-C29A0C47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3472-D938-403F-BF18-70A9324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4EC3-63E6-4439-A849-05D550E1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ADA2-5BCC-4176-9C2A-F339991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64B16-3F44-447F-B002-3D22948A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247D-9215-4453-8B46-025F3384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C7C2-1F62-4E7C-B80C-0C7DE2F7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E5C7-430A-4742-8045-C81FA370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C833B-1755-4F0A-B632-8FFB1DD4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EC8-4B4F-4576-AF0C-D252B815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4695A-9495-4981-800E-3254F4AD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B4ED-2F1C-42E4-BAFD-8981C82C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C9AA6-334F-4EB5-953F-95806E38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960C5-EC7F-4F98-869B-F4B85309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B8D4-EFE1-4C1F-80C7-BDEB3E9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9748-3D92-4728-9B02-A76490E2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70DFE-4F30-4FAA-8A80-C530D50E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DEB3B-D430-4486-B03C-4DC331E4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41509-5F1F-4FEE-92F5-DBB080F1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0784B-79C1-47B1-87BD-598DC934B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A02-980D-45B2-B485-B0AB6486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0052-30A1-4424-92A9-A5A8554B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B94DF-C763-4B2A-8913-B7579B12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FA425-496C-4D42-B43C-266B1262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CF11C-A077-4CBF-BB1B-DDD91301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18962-985A-4997-8F76-0DABCB8C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7515C-4DD1-46AA-ABC1-8E742994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39DA9-EB48-4247-B2F6-569EE97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126F8-03C6-431D-8951-42AB80B6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E39D1-D515-45F1-9504-598A34C0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05BB5-09DE-4F68-9D04-B5426E5B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E49E-3971-454A-9B5E-8578EC04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0B7C0-36BA-438B-9EB5-7EF29EA3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4B7FD-7627-4522-B96C-29B2C3A0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628B7-D047-4E73-AE57-FD1ABBF9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CE4DC-1CA6-4180-BE9F-0DE8201B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4AFA4-A223-423A-B535-33513C63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FF1E-2EBC-4DC3-A81B-516EC6D9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36FB3-E351-4C18-8AAB-426B09CA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E8D4A-9515-4767-A725-E5DE5B44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80699-28E0-4174-814B-FE7CF16F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E1EAC-741F-4C40-8CE8-103A7A2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460-6B92-409D-B9E6-0E3ABDAC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CF91A-B324-4A08-BA26-FA341D18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75C9F-ED48-45E2-B3E5-F3D1E88A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83400-92DB-41C6-B109-7BFF5E0B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E8B5F-655D-476C-A658-75E379D2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8964D-6654-4593-BD77-A40AFB7F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9CD8D-B8E0-495D-9BD4-9674D757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D2B10-BE1E-4083-97EA-278D019D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6C89E-B0A8-4C43-9A32-B75C1FC9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3C9B4-73FD-4CCE-8E12-3CB62FD8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B63B5-B099-4F40-87E5-CD574655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86B-0599-45FB-B0D6-7524B565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C4D1B-63F4-47D9-8A31-30C2D38F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39F71-282D-4E09-A27C-FBB6F44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F6E56-9CA8-4F40-8E40-AC24C224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2D233-5648-4646-B6D3-B2E9D6D7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58720-E7E5-4F17-A1E1-69A78D0A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497-F1DF-4E45-A9D8-98BEEBC3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791BE7-C31E-4867-B73C-C863BEF6E95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933990-23AA-4B62-882D-68DD8C1B928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D436EB-5999-4A5C-98A2-61BE1019FAC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3E99F7-3A6A-4E12-876D-5AFCD22BFB0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A9A8B8-8EE8-4A0A-9428-1C6BF569732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12EFF0-D0D7-4478-89C8-C4004D512D9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27F84E-7C17-4662-83F2-7012661222D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ext Box 1" descr=""/>
          <p:cNvPicPr/>
          <p:nvPr/>
        </p:nvPicPr>
        <p:blipFill>
          <a:blip r:embed="rId1"/>
          <a:stretch/>
        </p:blipFill>
        <p:spPr>
          <a:xfrm>
            <a:off x="1163520" y="2023920"/>
            <a:ext cx="7278840" cy="31147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б  исполнению бюджета  Александровского сельсовета Советского района  Курской области за 2023 год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914040" y="1928520"/>
            <a:ext cx="3352680" cy="1500120"/>
          </a:xfrm>
          <a:prstGeom prst="rect">
            <a:avLst/>
          </a:prstGeom>
          <a:solidFill>
            <a:srgbClr val="83d3fe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Исполнение в 2023 году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264,3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713880" y="500040"/>
            <a:ext cx="7572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е Муниципальной программы «Развитие культуры в муниципальном образовании «Александровский сельсовет Советского района Курской области» за 2023 год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1" name="Рисунок 3" descr=""/>
          <p:cNvPicPr/>
          <p:nvPr/>
        </p:nvPicPr>
        <p:blipFill>
          <a:blip r:embed="rId1"/>
          <a:stretch/>
        </p:blipFill>
        <p:spPr>
          <a:xfrm>
            <a:off x="4840200" y="1785960"/>
            <a:ext cx="3449880" cy="77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192240" y="404640"/>
            <a:ext cx="8772480" cy="158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Заголовок 4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5bd078"/>
          </a:solidFill>
          <a:ln w="15840">
            <a:solidFill>
              <a:srgbClr val="2d6b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Муниципальной программы «Обеспечение доступным и комфортным жильем и коммунальными услугами граждан в  МО «Александровский сельсовет Советского района Курской области»  за  2023 год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Блок-схема: перфолента 5"/>
          <p:cNvSpPr/>
          <p:nvPr/>
        </p:nvSpPr>
        <p:spPr>
          <a:xfrm>
            <a:off x="5508720" y="1430280"/>
            <a:ext cx="3311280" cy="129528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Candara"/>
              </a:rPr>
              <a:t>Цель программы - комплексное решение проблем благоустройства и улучшения внешнего вида территории поселения задач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5" name="Скругленный прямоугольник 8"/>
          <p:cNvGrpSpPr/>
          <p:nvPr/>
        </p:nvGrpSpPr>
        <p:grpSpPr>
          <a:xfrm>
            <a:off x="5742000" y="2724120"/>
            <a:ext cx="3309840" cy="1860480"/>
            <a:chOff x="5742000" y="2724120"/>
            <a:chExt cx="3309840" cy="1860480"/>
          </a:xfrm>
        </p:grpSpPr>
        <p:pic>
          <p:nvPicPr>
            <p:cNvPr id="416" name="Скругленный прямоугольник 8" descr=""/>
            <p:cNvPicPr/>
            <p:nvPr/>
          </p:nvPicPr>
          <p:blipFill>
            <a:blip r:embed="rId1"/>
            <a:stretch/>
          </p:blipFill>
          <p:spPr>
            <a:xfrm>
              <a:off x="5742000" y="2724120"/>
              <a:ext cx="3309840" cy="18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899320" y="2859120"/>
              <a:ext cx="3001680" cy="15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Задачи программы: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освещения улиц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 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благоустройства и озеленения территории поселения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содержание и ремонт дорожной сети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 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и содержание мест захоронения; 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-</a:t>
              </a:r>
              <a:r>
                <a:rPr b="1" lang="ru-RU" sz="1000" spc="-1" strike="noStrike">
                  <a:solidFill>
                    <a:srgbClr val="c00000"/>
                  </a:solidFill>
                  <a:latin typeface="Candara"/>
                </a:rPr>
                <a:t>организация прочих мероприятий по благоустройству поселения </a:t>
              </a:r>
              <a:r>
                <a:rPr b="0" lang="ru-RU" sz="1000" spc="-1" strike="noStrike">
                  <a:solidFill>
                    <a:srgbClr val="c00000"/>
                  </a:solidFill>
                  <a:latin typeface="Candara"/>
                </a:rPr>
                <a:t>.</a:t>
              </a: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Блок-схема: данные 9"/>
          <p:cNvSpPr/>
          <p:nvPr/>
        </p:nvSpPr>
        <p:spPr>
          <a:xfrm>
            <a:off x="5148360" y="4724280"/>
            <a:ext cx="3995640" cy="1584360"/>
          </a:xfrm>
          <a:prstGeom prst="flowChartInputOutput">
            <a:avLst/>
          </a:prstGeom>
          <a:solidFill>
            <a:srgbClr val="f5c04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Ожидаемый результат: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увеличение уровня озеленения территории поселения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 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увеличение про инвентаризованных зеленых насаждений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 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очистки и благоустройство территории кладбищ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ndara"/>
              </a:rPr>
              <a:t>- </a:t>
            </a:r>
            <a:r>
              <a:rPr b="1" lang="ru-RU" sz="1000" spc="-1" strike="noStrike">
                <a:solidFill>
                  <a:srgbClr val="c00000"/>
                </a:solidFill>
                <a:latin typeface="Candara"/>
              </a:rPr>
              <a:t>проведение организационно-хозяйственных мероприятий по сбору и вывозу мусора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33" descr=""/>
          <p:cNvPicPr/>
          <p:nvPr/>
        </p:nvPicPr>
        <p:blipFill>
          <a:blip r:embed="rId2"/>
          <a:stretch/>
        </p:blipFill>
        <p:spPr>
          <a:xfrm>
            <a:off x="1000080" y="1643040"/>
            <a:ext cx="2529000" cy="1643040"/>
          </a:xfrm>
          <a:prstGeom prst="rect">
            <a:avLst/>
          </a:prstGeom>
          <a:ln w="0">
            <a:noFill/>
          </a:ln>
        </p:spPr>
      </p:pic>
      <p:sp>
        <p:nvSpPr>
          <p:cNvPr id="420" name="Скругленный прямоугольник 11"/>
          <p:cNvSpPr/>
          <p:nvPr/>
        </p:nvSpPr>
        <p:spPr>
          <a:xfrm>
            <a:off x="2798640" y="3571920"/>
            <a:ext cx="259236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Исполнение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2023го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  <a:ea typeface="Microsoft YaHei"/>
              </a:rPr>
              <a:t>997,7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" name="Picture 16" descr="C:\Users\Irina\Desktop\усикова\IMG_1089.JPG"/>
          <p:cNvPicPr/>
          <p:nvPr/>
        </p:nvPicPr>
        <p:blipFill>
          <a:blip r:embed="rId3"/>
          <a:stretch/>
        </p:blipFill>
        <p:spPr>
          <a:xfrm>
            <a:off x="1071720" y="4572000"/>
            <a:ext cx="2392200" cy="17953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е Муниципальной программы «</a:t>
            </a:r>
            <a:r>
              <a:rPr b="1" lang="en-US" sz="1400" spc="-1" strike="noStrike">
                <a:solidFill>
                  <a:srgbClr val="000000"/>
                </a:solidFill>
                <a:latin typeface="Candara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оциальная  поддержка граждан в муниципальном образовании «Александровский сельсовет Советского района Курской области» за 2023 год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3" name="Прямоугольник 1"/>
          <p:cNvSpPr/>
          <p:nvPr/>
        </p:nvSpPr>
        <p:spPr>
          <a:xfrm>
            <a:off x="5786280" y="3071880"/>
            <a:ext cx="2428920" cy="16430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Исполнени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202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545,6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Блок-схема: процесс 2"/>
          <p:cNvSpPr/>
          <p:nvPr/>
        </p:nvSpPr>
        <p:spPr>
          <a:xfrm flipV="1">
            <a:off x="5572080" y="2214360"/>
            <a:ext cx="3095640" cy="7128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 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Прямоугольник 4"/>
          <p:cNvSpPr/>
          <p:nvPr/>
        </p:nvSpPr>
        <p:spPr>
          <a:xfrm>
            <a:off x="5786280" y="3071880"/>
            <a:ext cx="2428920" cy="164304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Исполнени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в  2023 году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515,7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Муниципальной программы «Защита населения и территории от чрезвычайных ситуаций, обеспечение пожарной безопасности и безопасности людей на водных объектах в муниципальном образовании «Александровский сельсовет» Советского района Курской области» за 2023 год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2519280" cy="1760400"/>
          </a:xfrm>
          <a:prstGeom prst="rect">
            <a:avLst/>
          </a:prstGeom>
          <a:ln w="0">
            <a:noFill/>
          </a:ln>
        </p:spPr>
      </p:pic>
      <p:sp>
        <p:nvSpPr>
          <p:cNvPr id="428" name="Блок-схема: процесс 2"/>
          <p:cNvSpPr/>
          <p:nvPr/>
        </p:nvSpPr>
        <p:spPr>
          <a:xfrm>
            <a:off x="250920" y="1484280"/>
            <a:ext cx="3241440" cy="1260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Цель программы – усиление мер по защите населения, объектов первоочередной значимости, от чрезвычайных ситуаций и угрозы их возникновения, а создание необходимых условий для укрепления пожарной безопасности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826920" y="2744640"/>
            <a:ext cx="3961080" cy="205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Задачи программы: - проведение воспитательной, пропагандистской работы с населением;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укрепление материально-технической базы подразделений пожарной охраны;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создание необходимых условий для укрепления пожарной безопасности на территории поселения, уменьшение гибели, травматизма людей и размера материальных потерь от пожаров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2"/>
          <a:stretch/>
        </p:blipFill>
        <p:spPr>
          <a:xfrm>
            <a:off x="5759280" y="4797360"/>
            <a:ext cx="2192400" cy="1608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4" descr=""/>
          <p:cNvPicPr/>
          <p:nvPr/>
        </p:nvPicPr>
        <p:blipFill>
          <a:blip r:embed="rId3"/>
          <a:stretch/>
        </p:blipFill>
        <p:spPr>
          <a:xfrm>
            <a:off x="6135840" y="5013360"/>
            <a:ext cx="720720" cy="70308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5"/>
          <p:cNvSpPr/>
          <p:nvPr/>
        </p:nvSpPr>
        <p:spPr>
          <a:xfrm>
            <a:off x="611280" y="5013360"/>
            <a:ext cx="4608360" cy="184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4bb49"/>
              </a:gs>
            </a:gsLst>
            <a:lin ang="5400000"/>
          </a:gradFill>
          <a:ln w="9360">
            <a:solidFill>
              <a:srgbClr val="f5c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Основные мероприятия программы: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 обеспечение беспрепятственного проезда пожарной техники к месту забора воды (расчистка в зимнее время дорог, ремонт дорог)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 организация пожарного водоснабжения населенных пунктов (строительство и оборудование пирсов, содержание противопожарных прорубей, установка указателей противопожарных водоемов, установка освещения противопожарных прорубей)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 опашка и создание минерализованных полос вокруг населенных пунктов в пожароопасный период.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Скругленный прямоугольник 6"/>
          <p:cNvSpPr/>
          <p:nvPr/>
        </p:nvSpPr>
        <p:spPr>
          <a:xfrm>
            <a:off x="6012000" y="3645000"/>
            <a:ext cx="25207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Исполнения в 2023 году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68,1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Муниципальной программы «Охрана окружающей среды в муниципальном образовании «Александровский сельсовет» Советского района Курской области» за 2023 год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371600" y="285732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Цель программы – строительство и реконструкция (модернизация) объектов питьевого водоснабжения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2357280" y="385776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</a:rPr>
              <a:t>Исполнение в 2023 году 5979,9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solidFill>
            <a:srgbClr val="c6e7f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Муниципальной программы «Развитие и использование информационных и телекоммуникационных технологий в Администрации Александровского сельсовета Советского района Курской области за 2023 год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8" name="Picture 3" descr="C:\Users\Irina\Desktop\почта\img18.jpg"/>
          <p:cNvPicPr/>
          <p:nvPr/>
        </p:nvPicPr>
        <p:blipFill>
          <a:blip r:embed="rId1"/>
          <a:stretch/>
        </p:blipFill>
        <p:spPr>
          <a:xfrm>
            <a:off x="458640" y="1557360"/>
            <a:ext cx="2448000" cy="1835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C:\Users\Irina\Desktop\почта\smev.png"/>
          <p:cNvPicPr/>
          <p:nvPr/>
        </p:nvPicPr>
        <p:blipFill>
          <a:blip r:embed="rId2"/>
          <a:stretch/>
        </p:blipFill>
        <p:spPr>
          <a:xfrm>
            <a:off x="3635280" y="1397160"/>
            <a:ext cx="4303800" cy="2581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C:\Users\Irina\Desktop\почта\img3.jpg"/>
          <p:cNvPicPr/>
          <p:nvPr/>
        </p:nvPicPr>
        <p:blipFill>
          <a:blip r:embed="rId3"/>
          <a:stretch/>
        </p:blipFill>
        <p:spPr>
          <a:xfrm>
            <a:off x="492120" y="3500280"/>
            <a:ext cx="3287880" cy="246708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1"/>
          <p:cNvSpPr/>
          <p:nvPr/>
        </p:nvSpPr>
        <p:spPr>
          <a:xfrm>
            <a:off x="4788000" y="4149720"/>
            <a:ext cx="3887640" cy="20160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Исполнения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в 2023 году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ndara"/>
              </a:rPr>
              <a:t>175,8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сполнеИсполнение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Candara"/>
              </a:rPr>
              <a:t>Исполнение муниципальной программы «Повышение эффективности работы с молодежью, организация отдыха и оздоровления детей, молодежи, развитие физической культуры и спорта  в м.о. «Александровский сельсовет» Советского района Курской области» за 2023 год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76440" y="2679480"/>
            <a:ext cx="3466800" cy="1392120"/>
          </a:xfrm>
          <a:prstGeom prst="rect">
            <a:avLst/>
          </a:prstGeom>
          <a:solidFill>
            <a:srgbClr val="b9d6fb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сполнение в 2023 году  0,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645080" y="2679480"/>
            <a:ext cx="3927600" cy="2749320"/>
          </a:xfrm>
          <a:prstGeom prst="rect">
            <a:avLst/>
          </a:prstGeom>
          <a:solidFill>
            <a:srgbClr val="b9d6fb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Создание условий  для укрепления здоровья населения,  популяризации массового спорта  и приобщения различных слоев населения к регулярным занятиям  физической  культурой и спортом;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ndara"/>
              </a:rPr>
              <a:t>Повышение роли физической культуры и спорта в формировании здорового образа  жизни населения муниципального образования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Исполнения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Муниципальной  программы «Развитие и укрепление материально-технической базы муниципального образования «Александровский сельсовет»  Советского района Курской области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ndara"/>
              </a:rPr>
              <a:t>за 2023 год 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Прямоугольник 1"/>
          <p:cNvSpPr/>
          <p:nvPr/>
        </p:nvSpPr>
        <p:spPr>
          <a:xfrm>
            <a:off x="6494400" y="1703520"/>
            <a:ext cx="2303640" cy="914400"/>
          </a:xfrm>
          <a:prstGeom prst="rect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Исполн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2023 году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314,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Прямоугольник 2"/>
          <p:cNvSpPr/>
          <p:nvPr/>
        </p:nvSpPr>
        <p:spPr>
          <a:xfrm>
            <a:off x="1500120" y="2857680"/>
            <a:ext cx="3786120" cy="314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Автоматизация  работ и услуг, улучшение качества предоставляемой отчетности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- материально-техническое обеспечение учреждений муниципального образования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-формирование имиджа Александровский 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8" name="Picture 15" descr=""/>
          <p:cNvPicPr/>
          <p:nvPr/>
        </p:nvPicPr>
        <p:blipFill>
          <a:blip r:embed="rId1"/>
          <a:stretch/>
        </p:blipFill>
        <p:spPr>
          <a:xfrm>
            <a:off x="5962680" y="3252960"/>
            <a:ext cx="3155760" cy="2097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6" descr=""/>
          <p:cNvPicPr/>
          <p:nvPr/>
        </p:nvPicPr>
        <p:blipFill>
          <a:blip r:embed="rId2"/>
          <a:stretch/>
        </p:blipFill>
        <p:spPr>
          <a:xfrm>
            <a:off x="6494400" y="5529240"/>
            <a:ext cx="19652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68360" y="404640"/>
            <a:ext cx="82296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полнения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ниципальной  программы «Развитие муниципальной службы в муниципальном образовании «Александровский сельсовет» Советского района Курской области»         за  2023 год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Блок-схема: процесс 1"/>
          <p:cNvSpPr/>
          <p:nvPr/>
        </p:nvSpPr>
        <p:spPr>
          <a:xfrm>
            <a:off x="6732720" y="2421000"/>
            <a:ext cx="1417680" cy="1079280"/>
          </a:xfrm>
          <a:prstGeom prst="flowChartProcess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Исполнения за 2023 год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0,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Блок-схема: процесс 3"/>
          <p:cNvSpPr/>
          <p:nvPr/>
        </p:nvSpPr>
        <p:spPr>
          <a:xfrm>
            <a:off x="1042920" y="1413000"/>
            <a:ext cx="3313080" cy="2376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вышение эффективности и качества муниципального управления при помощи системы профессиональной подготовки, переподготовки, повышения квалификации, а также иных форм обучения муниципальных служащих, ориентированных на решение практических задач органов местного самоуправления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Прямоугольник 4"/>
          <p:cNvSpPr/>
          <p:nvPr/>
        </p:nvSpPr>
        <p:spPr>
          <a:xfrm>
            <a:off x="1187280" y="4149720"/>
            <a:ext cx="5905800" cy="1778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Реализация современных программ переподготовки и повышения квалификации кадров муниципальной службы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совершенствование системы профессионального развития муниципальных служащих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повышение эффективности работы муниципальных служащих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создание ориентированной на решение практических задач местного самоуправления системы профессиональной переподготовки, повышения квалификации и стажировки муниципальных служащих;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8" descr=""/>
          <p:cNvPicPr/>
          <p:nvPr/>
        </p:nvPicPr>
        <p:blipFill>
          <a:blip r:embed="rId1"/>
          <a:stretch/>
        </p:blipFill>
        <p:spPr>
          <a:xfrm>
            <a:off x="4716360" y="2178000"/>
            <a:ext cx="1644840" cy="15652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"/>
          <p:cNvPicPr/>
          <p:nvPr/>
        </p:nvPicPr>
        <p:blipFill>
          <a:blip r:embed="rId2"/>
          <a:stretch/>
        </p:blipFill>
        <p:spPr>
          <a:xfrm>
            <a:off x="7020000" y="3478320"/>
            <a:ext cx="1904760" cy="2781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8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ГОЛОССАРИЙ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60200" y="1143000"/>
            <a:ext cx="8659800" cy="542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БЮДЖЕТ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форма образования и расходования денежных средств, предназначенных для финансового обеспечения задач и функций местного самоуправления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Бюджетный процесс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регламентируемая законодательством Российской Федерации деятельность органов местного самоуправления и иных участников бюджетного процесса по составлению и рассмотрению проекта бюджета, утверждению и исполнению бюджета, контролю за его исполнением, осуществлению бюджетного учета, составлению, внешней проверке и, рассмотрению и утверждению бюджетной отчетности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Межбюджетные трансферты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средства, предоставляемые одним бюджетом бюджетной системы Российской Федерации другому бюджету бюджетной системы Российской Федерации;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Муниципальная программа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документ определяющий, цели и задачи муниципальной политики в определенной сфере, способы их достижения, примерные объемы используемых финансовых результатов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73e87"/>
                </a:solidFill>
                <a:latin typeface="Candara"/>
              </a:rPr>
              <a:t>Непрограммные направления деятельности </a:t>
            </a: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– не включенные в муниципальные программы направления деятельности органов местного самоуправления и органов местной администрации;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250920" y="404640"/>
            <a:ext cx="843588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Что такое «Бюджет для граждан?»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0293e0"/>
                </a:solidFill>
                <a:latin typeface="Times New Roman"/>
              </a:rPr>
              <a:t>Бюджет для граждан» познакомит вас об исполнении бюджета Александровского сельсовета Советского района Курской области  за  2022 год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муниципальным служащим, пенсионерам и другим категориям населения, так как бюджет поселения затрагивает интересы каждого жителя  Александровского сельсовета Советского района Курской области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Мы постарались в доступной и понятной форме для граждан, показать основные показатели исполнения  бюджета нашего сельсовета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030480" cy="2265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6300720" y="3860640"/>
            <a:ext cx="2208240" cy="2195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Блок-схема: процесс 3"/>
          <p:cNvSpPr/>
          <p:nvPr/>
        </p:nvSpPr>
        <p:spPr>
          <a:xfrm>
            <a:off x="468360" y="260280"/>
            <a:ext cx="8207280" cy="13683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Непрограммная деятельность органов местного самоуправления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Муниципального образования  «Александровский сельсовет» Советского района Курской области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ndara"/>
              </a:rPr>
              <a:t>за 2023  год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Блок-схема: процесс 4"/>
          <p:cNvSpPr/>
          <p:nvPr/>
        </p:nvSpPr>
        <p:spPr>
          <a:xfrm>
            <a:off x="468360" y="1773360"/>
            <a:ext cx="2448000" cy="97128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Обеспечение функционирования высшего должностного лица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Блок-схема: процесс 5"/>
          <p:cNvSpPr/>
          <p:nvPr/>
        </p:nvSpPr>
        <p:spPr>
          <a:xfrm>
            <a:off x="455760" y="2911320"/>
            <a:ext cx="3168360" cy="98280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Обеспечение функционирования местных администраций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Блок-схема: процесс 6"/>
          <p:cNvSpPr/>
          <p:nvPr/>
        </p:nvSpPr>
        <p:spPr>
          <a:xfrm>
            <a:off x="434880" y="4129200"/>
            <a:ext cx="3095640" cy="828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Осуществление первичного воинского учета на территориях, где отсутствуют военные комиссариат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Блок-схема: процесс 7"/>
          <p:cNvSpPr/>
          <p:nvPr/>
        </p:nvSpPr>
        <p:spPr>
          <a:xfrm>
            <a:off x="455760" y="5253120"/>
            <a:ext cx="2282760" cy="61272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Реализация мероприятий по распространению официальной информаци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Стрелка вправо 8"/>
          <p:cNvSpPr/>
          <p:nvPr/>
        </p:nvSpPr>
        <p:spPr>
          <a:xfrm>
            <a:off x="3409920" y="2016000"/>
            <a:ext cx="979560" cy="48600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Стрелка вправо 9"/>
          <p:cNvSpPr/>
          <p:nvPr/>
        </p:nvSpPr>
        <p:spPr>
          <a:xfrm>
            <a:off x="3843360" y="306864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Стрелка вправо 10"/>
          <p:cNvSpPr/>
          <p:nvPr/>
        </p:nvSpPr>
        <p:spPr>
          <a:xfrm>
            <a:off x="3624120" y="42400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Стрелка вправо 11"/>
          <p:cNvSpPr/>
          <p:nvPr/>
        </p:nvSpPr>
        <p:spPr>
          <a:xfrm>
            <a:off x="3041640" y="531648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Блок-схема: перфолента 12"/>
          <p:cNvSpPr/>
          <p:nvPr/>
        </p:nvSpPr>
        <p:spPr>
          <a:xfrm>
            <a:off x="7070760" y="1773360"/>
            <a:ext cx="914400" cy="80460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ndara"/>
              </a:rPr>
              <a:t>687,1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Блок-схема: перфолента 13"/>
          <p:cNvSpPr/>
          <p:nvPr/>
        </p:nvSpPr>
        <p:spPr>
          <a:xfrm>
            <a:off x="5985000" y="2666880"/>
            <a:ext cx="914400" cy="80496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ndara"/>
              </a:rPr>
              <a:t>1846,8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Блок-схема: перфолента 14"/>
          <p:cNvSpPr/>
          <p:nvPr/>
        </p:nvSpPr>
        <p:spPr>
          <a:xfrm>
            <a:off x="6858000" y="3714840"/>
            <a:ext cx="914400" cy="80460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ndara"/>
              </a:rPr>
              <a:t>112,1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Блок-схема: перфолента 15"/>
          <p:cNvSpPr/>
          <p:nvPr/>
        </p:nvSpPr>
        <p:spPr>
          <a:xfrm>
            <a:off x="5986440" y="4997520"/>
            <a:ext cx="914400" cy="804960"/>
          </a:xfrm>
          <a:prstGeom prst="flowChartPunchedTap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ndara"/>
              </a:rPr>
              <a:t>34,7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.Н. Митирёва  - глава администрации  Александровского сельсове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.Д. Сорокина – начальник отдела бухгалтерского учета и отчетности Администрации Александровского сельсове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 Александр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07, Курская область, Советский район д. Александр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Александр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44-34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44-3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imes New Roman"/>
              </a:rPr>
              <a:t>aleksovet@mail.ru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1"/>
          <p:cNvSpPr/>
          <p:nvPr/>
        </p:nvSpPr>
        <p:spPr>
          <a:xfrm>
            <a:off x="900000" y="2398680"/>
            <a:ext cx="59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ельского поселения !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684360" y="289080"/>
            <a:ext cx="8064360" cy="630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Уважаемые жител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Александровского сельсовета!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Представляем Вашему вниманию информационный материал –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«Бюджет для граждан»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который в доступной форме познакомит Вас с исполнением основного финансового документа Александровского сельсовета Советского района  Курской области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за 2023 год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Text Box 2" descr=""/>
          <p:cNvPicPr/>
          <p:nvPr/>
        </p:nvPicPr>
        <p:blipFill>
          <a:blip r:embed="rId1"/>
          <a:stretch/>
        </p:blipFill>
        <p:spPr>
          <a:xfrm>
            <a:off x="444600" y="103320"/>
            <a:ext cx="8261280" cy="6041880"/>
          </a:xfrm>
          <a:prstGeom prst="rect">
            <a:avLst/>
          </a:prstGeom>
          <a:ln w="0">
            <a:noFill/>
          </a:ln>
        </p:spPr>
      </p:pic>
      <p:pic>
        <p:nvPicPr>
          <p:cNvPr id="354" name="Прямоугольник 1" descr=""/>
          <p:cNvPicPr/>
          <p:nvPr/>
        </p:nvPicPr>
        <p:blipFill>
          <a:blip r:embed="rId2"/>
          <a:stretch/>
        </p:blipFill>
        <p:spPr>
          <a:xfrm>
            <a:off x="596880" y="4863960"/>
            <a:ext cx="1403280" cy="125568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"/>
          <p:cNvSpPr/>
          <p:nvPr/>
        </p:nvSpPr>
        <p:spPr>
          <a:xfrm>
            <a:off x="1295280" y="3584520"/>
            <a:ext cx="1393920" cy="110484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Рассмотрение</a:t>
            </a:r>
            <a:r>
              <a:rPr b="1" lang="ru-RU" sz="9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проект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бюджета на очередной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год и плановый период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2738520" y="2565360"/>
            <a:ext cx="1368360" cy="91440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Утверждение</a:t>
            </a:r>
            <a:r>
              <a:rPr b="1" lang="ru-RU" sz="9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проект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бюджета на очередной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год и плановый период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Прямоугольник 4"/>
          <p:cNvSpPr/>
          <p:nvPr/>
        </p:nvSpPr>
        <p:spPr>
          <a:xfrm>
            <a:off x="4211640" y="1650960"/>
            <a:ext cx="1224000" cy="91440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сполнение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бюджета в текущем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году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Прямоугольник 5"/>
          <p:cNvSpPr/>
          <p:nvPr/>
        </p:nvSpPr>
        <p:spPr>
          <a:xfrm>
            <a:off x="6012000" y="1650960"/>
            <a:ext cx="1439640" cy="91440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Формировани</a:t>
            </a:r>
            <a:r>
              <a:rPr b="1" lang="ru-RU" sz="900" spc="-1" strike="noStrike">
                <a:solidFill>
                  <a:srgbClr val="000000"/>
                </a:solidFill>
                <a:latin typeface="Candara"/>
              </a:rPr>
              <a:t>е </a:t>
            </a: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отчета об исполнении бюджет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Candara"/>
              </a:rPr>
              <a:t>предыдущего года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5435640" y="3075120"/>
            <a:ext cx="2665440" cy="1562040"/>
          </a:xfrm>
          <a:prstGeom prst="rect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Утверждение отчета об исполнении бюджета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ndara"/>
              </a:rPr>
              <a:t>Предыдущего года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5-конечная звезда 8"/>
          <p:cNvSpPr/>
          <p:nvPr/>
        </p:nvSpPr>
        <p:spPr>
          <a:xfrm>
            <a:off x="1835280" y="2637000"/>
            <a:ext cx="576000" cy="64764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5-конечная звезда 9"/>
          <p:cNvSpPr/>
          <p:nvPr/>
        </p:nvSpPr>
        <p:spPr>
          <a:xfrm>
            <a:off x="7596360" y="2276640"/>
            <a:ext cx="504720" cy="50472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5-конечная звезда 10"/>
          <p:cNvSpPr/>
          <p:nvPr/>
        </p:nvSpPr>
        <p:spPr>
          <a:xfrm>
            <a:off x="826920" y="4076640"/>
            <a:ext cx="468360" cy="56052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5-конечная звезда 11"/>
          <p:cNvSpPr/>
          <p:nvPr/>
        </p:nvSpPr>
        <p:spPr>
          <a:xfrm>
            <a:off x="3346560" y="1650960"/>
            <a:ext cx="361800" cy="45720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5-конечная звезда 12"/>
          <p:cNvSpPr/>
          <p:nvPr/>
        </p:nvSpPr>
        <p:spPr>
          <a:xfrm>
            <a:off x="5292720" y="1197000"/>
            <a:ext cx="816120" cy="453960"/>
          </a:xfrm>
          <a:prstGeom prst="pie">
            <a:avLst/>
          </a:prstGeom>
          <a:solidFill>
            <a:srgbClr val="5afbf8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468360" y="12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-181080" y="12600"/>
            <a:ext cx="9325080" cy="68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обственные - НАЛОГОВЫЕ и НЕНАЛОГОВЫЕ ДОХОДЫ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                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безвозмездные поступления от других бюджетов бюджетной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системы РФ  - ДОТАЦИИ, СУБСИДИИ, СУБВЕНЦИИ, иные межбюджетные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трансферты</a:t>
            </a: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совокупность средств, направляемых на оказание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                                         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государственных (муниципальных)  услуг, социальное                     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    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обеспечение населения, бюджетные инвестиции, предоставление            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                            </a:t>
            </a:r>
            <a:r>
              <a:rPr b="1" lang="ru-RU" sz="1200" spc="-1" strike="noStrike">
                <a:solidFill>
                  <a:srgbClr val="021b2b"/>
                </a:solidFill>
                <a:latin typeface="Trebuchet MS"/>
              </a:rPr>
              <a:t>межбюджетных трансфертов, обслуживание     государственного (муниципального) долга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основополагающее требование, предъявляемое к органам,                                                                                           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составляющим и утверждающим бюджет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превышение расходов над доходами                                            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(    принимается решение об источниках покрытия                                                превышение доходов над расходами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дефицита- использовать  остатки ,взять в долг  )                                                  (принимается решение об использовании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доходов-накапливать резервы, остатки, погашать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лг</a:t>
            </a:r>
            <a:r>
              <a:rPr b="0" lang="ru-RU" sz="9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Овал 1"/>
          <p:cNvSpPr/>
          <p:nvPr/>
        </p:nvSpPr>
        <p:spPr>
          <a:xfrm>
            <a:off x="179280" y="758880"/>
            <a:ext cx="1698840" cy="13698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Доходы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бюджета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Штриховая стрелка вправо 3"/>
          <p:cNvSpPr/>
          <p:nvPr/>
        </p:nvSpPr>
        <p:spPr>
          <a:xfrm>
            <a:off x="1639800" y="1746360"/>
            <a:ext cx="79236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Штриховая стрелка вправо 4"/>
          <p:cNvSpPr/>
          <p:nvPr/>
        </p:nvSpPr>
        <p:spPr>
          <a:xfrm>
            <a:off x="1971720" y="1136520"/>
            <a:ext cx="977760" cy="4860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Овал 5"/>
          <p:cNvSpPr/>
          <p:nvPr/>
        </p:nvSpPr>
        <p:spPr>
          <a:xfrm>
            <a:off x="0" y="2635200"/>
            <a:ext cx="2500200" cy="914400"/>
          </a:xfrm>
          <a:prstGeom prst="ellips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ndara"/>
              </a:rPr>
              <a:t>Расходы</a:t>
            </a:r>
            <a:r>
              <a:rPr b="1" lang="ru-RU" sz="1600" spc="-1" strike="noStrike">
                <a:solidFill>
                  <a:srgbClr val="052e65"/>
                </a:solidFill>
                <a:latin typeface="Candara"/>
              </a:rPr>
              <a:t> </a:t>
            </a: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бюджета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Стрелка вправо 6"/>
          <p:cNvSpPr/>
          <p:nvPr/>
        </p:nvSpPr>
        <p:spPr>
          <a:xfrm>
            <a:off x="2425680" y="2679840"/>
            <a:ext cx="523800" cy="484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Овал 7"/>
          <p:cNvSpPr/>
          <p:nvPr/>
        </p:nvSpPr>
        <p:spPr>
          <a:xfrm>
            <a:off x="0" y="3789360"/>
            <a:ext cx="2670120" cy="1224000"/>
          </a:xfrm>
          <a:prstGeom prst="ellipse">
            <a:avLst/>
          </a:prstGeom>
          <a:solidFill>
            <a:srgbClr val="5bba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Сбалансированность </a:t>
            </a:r>
            <a:r>
              <a:rPr b="1" lang="ru-RU" sz="1400" spc="-1" strike="noStrike">
                <a:solidFill>
                  <a:srgbClr val="262626"/>
                </a:solidFill>
                <a:latin typeface="Candara"/>
              </a:rPr>
              <a:t>бюджета по доходам и расходам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Стрелка вправо с вырезом 8"/>
          <p:cNvSpPr/>
          <p:nvPr/>
        </p:nvSpPr>
        <p:spPr>
          <a:xfrm>
            <a:off x="2521080" y="4216320"/>
            <a:ext cx="977760" cy="484200"/>
          </a:xfrm>
          <a:custGeom>
            <a:avLst/>
            <a:gdLst>
              <a:gd name="textAreaLeft" fmla="*/ 120960 w 977760"/>
              <a:gd name="textAreaRight" fmla="*/ 856800 w 97776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53" y="5400"/>
                </a:lnTo>
                <a:lnTo>
                  <a:pt x="16253" y="0"/>
                </a:lnTo>
                <a:lnTo>
                  <a:pt x="21600" y="10800"/>
                </a:lnTo>
                <a:lnTo>
                  <a:pt x="16253" y="21600"/>
                </a:lnTo>
                <a:lnTo>
                  <a:pt x="16253" y="16200"/>
                </a:lnTo>
                <a:lnTo>
                  <a:pt x="0" y="16200"/>
                </a:lnTo>
                <a:lnTo>
                  <a:pt x="26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Трапеция 12"/>
          <p:cNvSpPr/>
          <p:nvPr/>
        </p:nvSpPr>
        <p:spPr>
          <a:xfrm>
            <a:off x="420840" y="5300640"/>
            <a:ext cx="1217520" cy="1216080"/>
          </a:xfrm>
          <a:prstGeom prst="pie">
            <a:avLst/>
          </a:prstGeom>
          <a:solidFill>
            <a:srgbClr val="5bba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Дефицит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Трапеция 13"/>
          <p:cNvSpPr/>
          <p:nvPr/>
        </p:nvSpPr>
        <p:spPr>
          <a:xfrm>
            <a:off x="4678200" y="5300640"/>
            <a:ext cx="1221120" cy="1216080"/>
          </a:xfrm>
          <a:prstGeom prst="pie">
            <a:avLst/>
          </a:prstGeom>
          <a:solidFill>
            <a:srgbClr val="5bbaf6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Times New Roman"/>
              </a:rPr>
              <a:t>Профицит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539640" y="3618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Исполнения бюджета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2023год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755640" y="1714680"/>
          <a:ext cx="7140600" cy="2931840"/>
        </p:xfrm>
        <a:graphic>
          <a:graphicData uri="http://schemas.openxmlformats.org/drawingml/2006/table">
            <a:tbl>
              <a:tblPr/>
              <a:tblGrid>
                <a:gridCol w="4905360"/>
                <a:gridCol w="2235240"/>
              </a:tblGrid>
              <a:tr h="400320">
                <a:tc>
                  <a:txBody>
                    <a:bodyPr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3366"/>
                          </a:solidFill>
                          <a:latin typeface="Times New Roman"/>
                          <a:ea typeface="Microsoft YaHei"/>
                        </a:rPr>
                        <a:t>(тыс. рублей)</a:t>
                      </a:r>
                      <a:endParaRPr b="1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, в т.ч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6436b"/>
                          </a:solidFill>
                          <a:latin typeface="Calibri"/>
                        </a:rPr>
                        <a:t>5567,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6436b"/>
                          </a:solidFill>
                          <a:latin typeface="Times New Roman"/>
                          <a:ea typeface="Times New Roman"/>
                        </a:rPr>
                        <a:t>273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и на совокупный дох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52,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логи на имущество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41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9" name="Picture 23" descr=""/>
          <p:cNvPicPr/>
          <p:nvPr/>
        </p:nvPicPr>
        <p:blipFill>
          <a:blip r:embed="rId1"/>
          <a:stretch/>
        </p:blipFill>
        <p:spPr>
          <a:xfrm>
            <a:off x="1500120" y="1071720"/>
            <a:ext cx="6624720" cy="485640"/>
          </a:xfrm>
          <a:prstGeom prst="rect">
            <a:avLst/>
          </a:prstGeom>
          <a:ln w="0">
            <a:noFill/>
          </a:ln>
        </p:spPr>
      </p:pic>
    </p:spTree>
  </p:cSld>
  <p:transition advTm="11000"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0" y="189000"/>
            <a:ext cx="9144000" cy="1008000"/>
          </a:xfrm>
          <a:prstGeom prst="rect">
            <a:avLst/>
          </a:prstGeom>
          <a:solidFill>
            <a:srgbClr val="05e0db"/>
          </a:solidFill>
          <a:ln w="15840">
            <a:solidFill>
              <a:srgbClr val="0273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Безвозмездные поступления бюджета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за 2023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324000" y="1413000"/>
            <a:ext cx="3240000" cy="93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Дотация 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- предоставляются без определения конкретной цели их использования; 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Прямоугольник 4"/>
          <p:cNvSpPr/>
          <p:nvPr/>
        </p:nvSpPr>
        <p:spPr>
          <a:xfrm>
            <a:off x="428760" y="1643040"/>
            <a:ext cx="4608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Прямоугольник 5"/>
          <p:cNvSpPr/>
          <p:nvPr/>
        </p:nvSpPr>
        <p:spPr>
          <a:xfrm>
            <a:off x="160200" y="2928960"/>
            <a:ext cx="3625920" cy="121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ndara"/>
              </a:rPr>
              <a:t>Субвенция </a:t>
            </a:r>
            <a:r>
              <a:rPr b="0" lang="ru-RU" sz="1400" spc="-1" strike="noStrike">
                <a:solidFill>
                  <a:srgbClr val="000000"/>
                </a:solidFill>
                <a:latin typeface="Candara"/>
              </a:rPr>
              <a:t>- предоставляются на условиях долевого софинансирования расходов других бюджетов</a:t>
            </a:r>
            <a:r>
              <a:rPr b="0" lang="ru-RU" sz="1600" spc="-1" strike="noStrike">
                <a:solidFill>
                  <a:srgbClr val="000000"/>
                </a:solidFill>
                <a:latin typeface="Candara"/>
              </a:rPr>
              <a:t>.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Стрелка вправо 6"/>
          <p:cNvSpPr/>
          <p:nvPr/>
        </p:nvSpPr>
        <p:spPr>
          <a:xfrm>
            <a:off x="3895560" y="1539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Стрелка вправо 9"/>
          <p:cNvSpPr/>
          <p:nvPr/>
        </p:nvSpPr>
        <p:spPr>
          <a:xfrm>
            <a:off x="4035600" y="36385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Блок-схема: перфолента 11"/>
          <p:cNvSpPr/>
          <p:nvPr/>
        </p:nvSpPr>
        <p:spPr>
          <a:xfrm>
            <a:off x="5979960" y="1379520"/>
            <a:ext cx="1943280" cy="64440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1146,3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Блок-схема: перфолента 13"/>
          <p:cNvSpPr/>
          <p:nvPr/>
        </p:nvSpPr>
        <p:spPr>
          <a:xfrm>
            <a:off x="6222960" y="2928960"/>
            <a:ext cx="1440000" cy="89532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112,1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Блок-схема: перфолента 14"/>
          <p:cNvSpPr/>
          <p:nvPr/>
        </p:nvSpPr>
        <p:spPr>
          <a:xfrm>
            <a:off x="5065560" y="6053040"/>
            <a:ext cx="3754440" cy="689040"/>
          </a:xfrm>
          <a:prstGeom prst="flowChartPunchedTape">
            <a:avLst/>
          </a:prstGeom>
          <a:solidFill>
            <a:srgbClr val="05e0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ndara"/>
              </a:rPr>
              <a:t>Итого: 14509,9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Блок-схема: процесс 15"/>
          <p:cNvSpPr/>
          <p:nvPr/>
        </p:nvSpPr>
        <p:spPr>
          <a:xfrm>
            <a:off x="69840" y="4643280"/>
            <a:ext cx="3672000" cy="61308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ndara"/>
              </a:rPr>
              <a:t>Иные межбюджетные трансферты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Стрелка вправо 17"/>
          <p:cNvSpPr/>
          <p:nvPr/>
        </p:nvSpPr>
        <p:spPr>
          <a:xfrm>
            <a:off x="4334040" y="467676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Блок-схема: перфолента 19"/>
          <p:cNvSpPr/>
          <p:nvPr/>
        </p:nvSpPr>
        <p:spPr>
          <a:xfrm>
            <a:off x="5500800" y="4357800"/>
            <a:ext cx="2238120" cy="80460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3edfda"/>
              </a:gs>
            </a:gsLst>
            <a:lin ang="5400000"/>
          </a:gradFill>
          <a:ln w="9360">
            <a:solidFill>
              <a:srgbClr val="05e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13251,5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108000" y="0"/>
            <a:ext cx="8712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бюджета Александровского сельсовета  по основным направлениям исполнения расходов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 2023 год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Picture 60" descr=""/>
          <p:cNvPicPr/>
          <p:nvPr/>
        </p:nvPicPr>
        <p:blipFill>
          <a:blip r:embed="rId1"/>
          <a:stretch/>
        </p:blipFill>
        <p:spPr>
          <a:xfrm>
            <a:off x="7174080" y="920880"/>
            <a:ext cx="1441440" cy="1969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2" descr=""/>
          <p:cNvPicPr/>
          <p:nvPr/>
        </p:nvPicPr>
        <p:blipFill>
          <a:blip r:embed="rId2"/>
          <a:stretch/>
        </p:blipFill>
        <p:spPr>
          <a:xfrm>
            <a:off x="5724360" y="2139840"/>
            <a:ext cx="1192320" cy="782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3" descr=""/>
          <p:cNvPicPr/>
          <p:nvPr/>
        </p:nvPicPr>
        <p:blipFill>
          <a:blip r:embed="rId3"/>
          <a:stretch/>
        </p:blipFill>
        <p:spPr>
          <a:xfrm>
            <a:off x="6615000" y="2924280"/>
            <a:ext cx="604800" cy="531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4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719280" cy="704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5" descr=""/>
          <p:cNvPicPr/>
          <p:nvPr/>
        </p:nvPicPr>
        <p:blipFill>
          <a:blip r:embed="rId5"/>
          <a:stretch/>
        </p:blipFill>
        <p:spPr>
          <a:xfrm>
            <a:off x="6675480" y="3817800"/>
            <a:ext cx="736560" cy="6336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6" descr=""/>
          <p:cNvPicPr/>
          <p:nvPr/>
        </p:nvPicPr>
        <p:blipFill>
          <a:blip r:embed="rId6"/>
          <a:stretch/>
        </p:blipFill>
        <p:spPr>
          <a:xfrm>
            <a:off x="5796000" y="4387680"/>
            <a:ext cx="647640" cy="520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7" descr=""/>
          <p:cNvPicPr/>
          <p:nvPr/>
        </p:nvPicPr>
        <p:blipFill>
          <a:blip r:embed="rId7"/>
          <a:stretch/>
        </p:blipFill>
        <p:spPr>
          <a:xfrm>
            <a:off x="5719680" y="5157720"/>
            <a:ext cx="955800" cy="530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8" descr=""/>
          <p:cNvPicPr/>
          <p:nvPr/>
        </p:nvPicPr>
        <p:blipFill>
          <a:blip r:embed="rId8"/>
          <a:stretch/>
        </p:blipFill>
        <p:spPr>
          <a:xfrm>
            <a:off x="6059520" y="5950080"/>
            <a:ext cx="1114560" cy="55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68360" y="1071720"/>
          <a:ext cx="5183280" cy="4717800"/>
        </p:xfrm>
        <a:graphic>
          <a:graphicData uri="http://schemas.openxmlformats.org/drawingml/2006/table">
            <a:tbl>
              <a:tblPr/>
              <a:tblGrid>
                <a:gridCol w="576360"/>
                <a:gridCol w="2158920"/>
                <a:gridCol w="244800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023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0860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13066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297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3412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92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12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091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68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0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03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4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8490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0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264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37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0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515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Заголовок 4"/>
          <p:cNvGrpSpPr/>
          <p:nvPr/>
        </p:nvGrpSpPr>
        <p:grpSpPr>
          <a:xfrm>
            <a:off x="450720" y="328680"/>
            <a:ext cx="8242560" cy="1268280"/>
            <a:chOff x="450720" y="328680"/>
            <a:chExt cx="8242560" cy="1268280"/>
          </a:xfrm>
        </p:grpSpPr>
        <p:pic>
          <p:nvPicPr>
            <p:cNvPr id="403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450720" y="328680"/>
              <a:ext cx="82425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57200" y="338040"/>
              <a:ext cx="82296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ndara"/>
                </a:rPr>
                <a:t>Исполнения</a:t>
              </a:r>
              <a:br>
                <a:rPr sz="1200"/>
              </a:br>
              <a:r>
                <a:rPr b="1" lang="ru-RU" sz="1200" spc="-1" strike="noStrike">
                  <a:solidFill>
                    <a:srgbClr val="000000"/>
                  </a:solidFill>
                  <a:latin typeface="Candara"/>
                </a:rPr>
                <a:t>Муниципальной  программы «Энергосбережение и повышение энергетической эффективности в муниципальном образовании «Александровский сельсовет» Советского района Курской области» за 2023 год</a:t>
              </a:r>
              <a:br>
                <a:rPr sz="1200"/>
              </a:br>
              <a:endParaRPr b="1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5" name="Picture 5" descr="C:\Users\Irina\Desktop\почта\064 (2).jpg"/>
          <p:cNvPicPr/>
          <p:nvPr/>
        </p:nvPicPr>
        <p:blipFill>
          <a:blip r:embed="rId2"/>
          <a:stretch/>
        </p:blipFill>
        <p:spPr>
          <a:xfrm>
            <a:off x="539640" y="1916280"/>
            <a:ext cx="4505400" cy="31842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C:\Users\Irina\Desktop\почта\064 (1).jpg"/>
          <p:cNvPicPr/>
          <p:nvPr/>
        </p:nvPicPr>
        <p:blipFill>
          <a:blip r:embed="rId3"/>
          <a:stretch/>
        </p:blipFill>
        <p:spPr>
          <a:xfrm>
            <a:off x="539640" y="1916280"/>
            <a:ext cx="4505400" cy="318420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с двумя вырезанными соседними углами 1"/>
          <p:cNvSpPr/>
          <p:nvPr/>
        </p:nvSpPr>
        <p:spPr>
          <a:xfrm>
            <a:off x="5508720" y="2276640"/>
            <a:ext cx="3166920" cy="143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Исполнение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в 2023году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0,0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Блок-схема: процесс 2"/>
          <p:cNvSpPr/>
          <p:nvPr/>
        </p:nvSpPr>
        <p:spPr>
          <a:xfrm>
            <a:off x="4387680" y="4200480"/>
            <a:ext cx="4730760" cy="2324160"/>
          </a:xfrm>
          <a:prstGeom prst="flowChartProcess">
            <a:avLst/>
          </a:prstGeom>
          <a:gradFill rotWithShape="0">
            <a:gsLst>
              <a:gs pos="0">
                <a:srgbClr val="ffffff"/>
              </a:gs>
              <a:gs pos="100000">
                <a:srgbClr val="41b1fd"/>
              </a:gs>
            </a:gsLst>
            <a:lin ang="5400000"/>
          </a:gra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улучшение качества жизни и благосостояния населения Александровского сельсовета Советского район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совершенствование нормативных и правовых условий для поддержки энергосбережения и повышения энергетической эффективности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лимитированные и нормирование энергопотребления в бюджетной сфере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широкая пропаганда энергосбережения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повышение эффективности использования энергетических ресурсов Александровского сельсовета Советского района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ndara"/>
              </a:rPr>
              <a:t>-снижение финансовой нагрузки на бюджет за счет сокращения платежей за  воду, топливо и электрическую энергию;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user</dc:creator>
  <dc:description/>
  <dc:language>en-US</dc:language>
  <cp:lastModifiedBy>Name</cp:lastModifiedBy>
  <dcterms:modified xsi:type="dcterms:W3CDTF">2025-02-18T11:25:41Z</dcterms:modified>
  <cp:revision>560</cp:revision>
  <dc:subject/>
  <dc:title>Слайд 1</dc:title>
</cp:coreProperties>
</file>