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53240" cy="37101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262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33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CDABD-89D8-40AE-AD74-EDE10CE39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6B3F3-CD08-4BC5-B7D0-A5AB85C2C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F57E8-24D4-4EA1-94EB-AA53A66A79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A3DD9-EA5F-4E18-8FED-D1F61A40D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8A095-5740-4D4C-864C-F837140D03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C929F-D0FA-4A45-8D82-5351FCC85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69A09-8F97-48AA-8514-FC785DEDF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5DAA1-DAA0-4312-9D62-D6593F21B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903AD-148D-4B68-94B1-ABD4CE85C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2E127-1193-4582-AA55-C15BB02C7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0F8D9-3114-4D57-8464-A07E66B00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921B7-05DF-4AFC-B64A-15BA052F2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0309E-437B-48A2-BFDF-0DC589CB8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A6B2C-8B07-44FC-8CE1-7B0CAD53C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8D6B5-40C8-43E7-A9AD-0A624C050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34F52-6866-45BF-A3A7-95B80D8C0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79CCE-9BCF-4A5B-B32E-BDD6C30E6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DE861-F1C8-4546-A4C7-F48BCF8DD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D2E22-6896-42C6-B2C4-EC7910F07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77A0A-2001-423A-B113-63922BCD6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E8C5-C296-436E-BE03-0CDC880C5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7C624-EBE2-459E-AB15-049943041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E5B15-613D-43A3-89ED-901A2F385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7AA6C-5703-465D-81B6-26597F2D5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35182-57A1-41E6-BF59-4BEEF282C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0FA8E-35BA-4746-8F1D-E65ABA4A6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3FEBB-1560-40E7-B5C5-3CC16F26D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1D14F-41DD-4730-817D-4DD5C280D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D6A24-E263-47CB-8CF7-93862CF491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751B1-9E5F-49A0-A792-C59A63251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DC0B9-20B9-4B7F-98AF-C389BFCAA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CF023-2A06-4791-BB71-0A9BE98C2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B89A4-F3C1-4553-B0D7-6A1FF733B8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1EDDD-257F-4430-AA5E-DC167AE1E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9E974-F253-45C9-AC70-A2D1A4BA9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DB22F-686F-45B1-B4C1-C5CA3ED31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AF4CE-1A26-4F5D-836A-43D5D45B6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26147-6BF7-495D-955D-88999990F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89595-A111-4BD5-A10D-2C9DEE324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F902C-D069-414D-BF7B-3E5F55A31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D99C9-3DAA-4183-B374-6F6AC60AA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ACAF3-9ABE-4C48-ACBE-31BFD6A7C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0E318-B95D-454E-9073-46D89CC64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068FC-C323-4145-B73F-FCCCC951F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BD7BD-6C38-4212-B34D-291D8FE6B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63CB9-50D4-4AFE-ADCB-10E7189BD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B7F95-0208-4005-B52B-8D86826BD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19662-084E-46BB-B586-7283D45C7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AB53B-B4C3-42D5-9FB3-8541437F8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5CB3E-157C-4E64-B942-C571EA1DF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B2055-D4B4-4DC1-8E56-4CE809C41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85130-42E5-4F59-BD3C-B79BC9571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26BD6-A6D9-4DFA-B18C-FAF31BEF5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6AF2B-093B-441B-8C01-83F48937D2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AC656-CFFB-4F0D-B1AF-04AFF9567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F6044-51ED-45E4-9036-D050FA6C9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62630-86E4-4204-A302-EFF2F2BC0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3728F-2503-4CA4-A573-E90D6379E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E382A-1069-44EB-BFA3-7FCF13F0A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9C880-72C2-44EC-B683-E57E909B5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37423-C87D-4603-9EAC-FF48F23C6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4F616-036B-4265-9517-A7D1F7F07F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459B3-2853-463B-AC1A-4E1F2707B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68740-4B5D-4FD0-B18A-E8ABFA34BD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04D91-F337-4529-B588-6EF36CDC3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F4EF5-634B-41A1-9AA1-11D72BC2B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E2F96-6B9C-4285-AE04-53E7C22AA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7A95C-DEE2-4D52-89EE-A8EC766F4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8D7AD-7804-405F-85BC-3815DE8AB3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0B057-236D-439B-B89E-7EEECC4B9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D3789-32E2-4350-A460-299C3434B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DF823-758E-4319-9A1F-3D36C50C7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627F3-C029-416D-9452-88DF35CF9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CB789-A874-426F-8CD7-F769B0472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2460B-8A42-4704-9248-1CE7F7C48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18595-E1F7-4D11-B49F-B08D17D49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23932-8BE7-40FF-8826-B0276B3E6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1C116-F45A-4B6F-9F98-049D3890B3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710B5-C3A7-4A10-9C69-17624B90B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2E342-D4D2-4EFC-ACCC-2B3FA5D15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3DA2F-D5D6-45B5-8272-EB92C5D1C7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152B0-EA0C-4715-9388-922B9618C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EC734-3865-47C6-B57C-CBF6CE49FF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53B14-D508-4185-875A-3EA44BE59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6622E-9CE9-49DD-90E8-AA5129CAF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CB051-DBEE-46EF-8248-89AF41EDC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C954B-9BC8-4460-A701-089B64F70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FE5BA-55E6-4444-A0B2-87FDB9BFD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55A7-21EF-4FE5-A0C1-919CFDB09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B4EA3-CB48-4B27-BC33-C29CB7F19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CED99-00F2-4023-8DB9-57FE1026B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A7072-D483-4430-8EF5-9B81BF13C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E1B0D-3B20-4267-BB18-FBFAE0FE0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1B49E-FF81-4DE4-A3EC-E6962CC1D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4"/>
          <p:cNvSpPr/>
          <p:nvPr/>
        </p:nvSpPr>
        <p:spPr>
          <a:xfrm>
            <a:off x="3849840" y="9429840"/>
            <a:ext cx="293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0E635-2892-47DA-B465-9B307A57C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49840" y="94298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56641-E1D5-4936-A659-B27610C02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309A1-43F1-4793-BC03-CD7494C64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2C12B-0F24-467A-94CC-6AD8B5746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4F8C-0989-4B7B-9CE4-1008EB7C1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22A7-AE41-41C3-950B-39CA51DED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2D23-2BF6-4AB6-ACE3-CBDBEFA0B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10DB-EC7D-4FD4-B5FA-192D3A02B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50D9-3AAA-4286-8CFE-E1ED88DDC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037E-C107-42EF-BB6F-DDA018638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B8D3-7E6B-4DF4-9785-D14AA1339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8045-E50B-4CEE-9E16-7E7EC544A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70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3AE0-96DB-45B4-ABFF-6CA4456AF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AF18-4945-4B42-9060-CA743C529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B2BE-C99E-4117-A914-A8B54A6B6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FB5D-95C6-43DE-BFC4-7A5D575DF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B8B493-870B-4873-8191-9E20229DD122}" type="slidenum"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БЮДЖЕТ ДЛЯ ГРАЖДАН АЛЕКСАНДРОВ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503280" y="5084640"/>
            <a:ext cx="83534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cc"/>
                </a:solidFill>
                <a:latin typeface="Times New Roman"/>
              </a:rPr>
              <a:t>К решению Собрания  депутатов  Александровского  сельсовета Советского района Курской области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i="1" lang="ru-RU" sz="1400" spc="-1" strike="noStrike">
                <a:solidFill>
                  <a:srgbClr val="6600cc"/>
                </a:solidFill>
                <a:latin typeface="Times New Roman"/>
              </a:rPr>
              <a:t>от 10.12.2019 года №  23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cc"/>
                </a:solidFill>
                <a:latin typeface="Times New Roman"/>
              </a:rPr>
              <a:t>«О бюджете  Александровского сельсовета Советского района  Курской области на 2020 год и на плановый период 2021 и 2022 годов»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Структура расходов бюджета Александр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о разделам функциональной классификации на  плановый период  2021 и 2022 годов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71760" y="1071720"/>
          <a:ext cx="6719760" cy="5703840"/>
        </p:xfrm>
        <a:graphic>
          <a:graphicData uri="http://schemas.openxmlformats.org/drawingml/2006/table">
            <a:tbl>
              <a:tblPr/>
              <a:tblGrid>
                <a:gridCol w="647640"/>
                <a:gridCol w="3101760"/>
                <a:gridCol w="1486080"/>
                <a:gridCol w="1484280"/>
              </a:tblGrid>
              <a:tr h="515520"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1444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476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4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71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600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476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условно утвержденные расход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8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708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8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2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85840" y="2000160"/>
          <a:ext cx="8758080" cy="2768760"/>
        </p:xfrm>
        <a:graphic>
          <a:graphicData uri="http://schemas.openxmlformats.org/drawingml/2006/table">
            <a:tbl>
              <a:tblPr/>
              <a:tblGrid>
                <a:gridCol w="3854520"/>
                <a:gridCol w="1082520"/>
                <a:gridCol w="1584360"/>
                <a:gridCol w="1152360"/>
                <a:gridCol w="1084320"/>
              </a:tblGrid>
              <a:tr h="1006560">
                <a:tc>
                  <a:txBody>
                    <a:bodyPr lIns="54000" rIns="54000" tIns="333000" bIns="54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333000" bIns="54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333000" bIns="54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0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333000" bIns="54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1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333000" bIns="54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2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08160">
                <a:tc>
                  <a:txBody>
                    <a:bodyPr lIns="36000" rIns="36000" tIns="354600" bIns="36000" anchor="t">
                      <a:noAutofit/>
                    </a:bodyPr>
                    <a:p>
                      <a:pPr marL="343080" indent="-330480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Александр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54600" bIns="36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54600" bIns="36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,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54600" bIns="36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,7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54600" bIns="36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6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 gridSpan="2">
                  <a:txBody>
                    <a:bodyPr lIns="36000" rIns="36000" tIns="354600" bIns="36000" anchor="ctr">
                      <a:noAutofit/>
                    </a:bodyPr>
                    <a:p>
                      <a:pPr marL="343080" indent="-330480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54600" bIns="36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,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354600" bIns="36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,7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354600" bIns="360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6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Александр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0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14200" y="1143000"/>
          <a:ext cx="8298000" cy="5288040"/>
        </p:xfrm>
        <a:graphic>
          <a:graphicData uri="http://schemas.openxmlformats.org/drawingml/2006/table">
            <a:tbl>
              <a:tblPr/>
              <a:tblGrid>
                <a:gridCol w="5427720"/>
                <a:gridCol w="1650960"/>
                <a:gridCol w="1219320"/>
              </a:tblGrid>
              <a:tr h="797040">
                <a:tc>
                  <a:txBody>
                    <a:bodyPr lIns="90000" rIns="90000" tIns="444960" bIns="46800" anchor="b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44960" bIns="46800" anchor="b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760">
                <a:tc rowSpan="2">
                  <a:txBody>
                    <a:bodyPr lIns="90000" rIns="90000" tIns="444960" bIns="468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365400" bIns="468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3654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65400" bIns="468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88040">
                <a:tc>
                  <a:txBody>
                    <a:bodyPr lIns="36000" rIns="36000" tIns="354600" bIns="36000" anchor="b">
                      <a:noAutofit/>
                    </a:bodyPr>
                    <a:p>
                      <a:pPr marL="343080" indent="-330480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64480">
                <a:tc>
                  <a:txBody>
                    <a:bodyPr lIns="36000" rIns="36000" tIns="295200" bIns="360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79120">
                <a:tc>
                  <a:txBody>
                    <a:bodyPr lIns="36000" rIns="36000" tIns="354600" bIns="360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Александр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3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53680">
                <a:tc>
                  <a:txBody>
                    <a:bodyPr lIns="36000" rIns="36000" tIns="354600" bIns="360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6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Александр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 плановый период 2021 и 2022 годов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857160"/>
          <a:ext cx="8072280" cy="5546880"/>
        </p:xfrm>
        <a:graphic>
          <a:graphicData uri="http://schemas.openxmlformats.org/drawingml/2006/table">
            <a:tbl>
              <a:tblPr/>
              <a:tblGrid>
                <a:gridCol w="4576680"/>
                <a:gridCol w="1081080"/>
                <a:gridCol w="720720"/>
                <a:gridCol w="1082520"/>
                <a:gridCol w="611280"/>
              </a:tblGrid>
              <a:tr h="797040">
                <a:tc>
                  <a:txBody>
                    <a:bodyPr lIns="90000" rIns="90000" tIns="444960" bIns="46800" anchor="b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44960" bIns="46800" anchor="b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280">
                <a:tc rowSpan="2">
                  <a:txBody>
                    <a:bodyPr lIns="90000" rIns="90000" tIns="444960" bIns="468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365400" bIns="468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365400" bIns="468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3654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204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654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65400" bIns="46800" anchor="ctr">
                      <a:noAutofit/>
                    </a:bodyPr>
                    <a:p>
                      <a:pPr marL="343080" indent="-330480" algn="ct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16400">
                <a:tc>
                  <a:txBody>
                    <a:bodyPr lIns="36000" rIns="36000" tIns="354600" bIns="36000" anchor="b">
                      <a:noAutofit/>
                    </a:bodyPr>
                    <a:p>
                      <a:pPr marL="343080" indent="-330480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0480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4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1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64480">
                <a:tc>
                  <a:txBody>
                    <a:bodyPr lIns="36000" rIns="36000" tIns="295200" bIns="360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5160">
                <a:tc>
                  <a:txBody>
                    <a:bodyPr lIns="36000" rIns="36000" tIns="295200" bIns="360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79120">
                <a:tc>
                  <a:txBody>
                    <a:bodyPr lIns="36000" rIns="36000" tIns="354600" bIns="360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Александр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8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53680">
                <a:tc>
                  <a:txBody>
                    <a:bodyPr lIns="36000" rIns="36000" tIns="354600" bIns="360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1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8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15000" bIns="36000" anchor="b">
                      <a:noAutofit/>
                    </a:bodyPr>
                    <a:p>
                      <a:pPr marL="343080" indent="-330480" algn="r">
                        <a:lnSpc>
                          <a:spcPct val="6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500040" y="0"/>
            <a:ext cx="819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Александр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0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71680" y="785880"/>
            <a:ext cx="8269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Александровского сельсовета Советского района Курской области – 4243,3 тыс. рублей, в том числе по направлениям: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040" y="855720"/>
          <a:ext cx="8313840" cy="5595840"/>
        </p:xfrm>
        <a:graphic>
          <a:graphicData uri="http://schemas.openxmlformats.org/drawingml/2006/table">
            <a:tbl>
              <a:tblPr/>
              <a:tblGrid>
                <a:gridCol w="7034400"/>
                <a:gridCol w="1279440"/>
              </a:tblGrid>
              <a:tr h="649080">
                <a:tc>
                  <a:txBody>
                    <a:bodyPr lIns="90000" rIns="90000" tIns="32580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2580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9372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в муниципальном образовании «Александровский сельсовет» Советского района Курской области"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 lvl="1" marL="457200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094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Александровский сельсовет» Советского района Курской области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 lvl="1" marL="457200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480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Муниципальная программа «Управление муниципальным имуществом и земельными ресурсами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 lvl="1" marL="457200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униципальном образовании «Александровский сельсовет» Советского района Курской области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 lvl="1" marL="457200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 "Благоустройство территории  Александровского сельсовета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 lvl="1" marL="457200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40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 » в муниципальном образовании  «Александровский сельсовет» Советского района Курской области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 lvl="1" marL="457200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муниципальной службы  в муниципальном образовании «Александровский сельсовет» Советского района Советского района Курской области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 lvl="1" marL="457200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42960" y="785880"/>
            <a:ext cx="81979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936720"/>
          <a:ext cx="8242200" cy="4168800"/>
        </p:xfrm>
        <a:graphic>
          <a:graphicData uri="http://schemas.openxmlformats.org/drawingml/2006/table">
            <a:tbl>
              <a:tblPr/>
              <a:tblGrid>
                <a:gridCol w="6648480"/>
                <a:gridCol w="1593720"/>
              </a:tblGrid>
              <a:tr h="709560"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9996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«Александровский сельсовет» Советского района Курской области 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344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Александровского сельсовета Советского района Курской области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Муниципальная программа «Развитие и укрепление материально-технической базы муниципального образования  «Александровский сельсовет»  Советского района Курской области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68360" y="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Александр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1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71680" y="785880"/>
            <a:ext cx="8269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Александровского сельсовета Советского района Курской области – 2478,7 тыс. рублей, в том числе по направлениям: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1428840"/>
          <a:ext cx="8242560" cy="5097240"/>
        </p:xfrm>
        <a:graphic>
          <a:graphicData uri="http://schemas.openxmlformats.org/drawingml/2006/table">
            <a:tbl>
              <a:tblPr/>
              <a:tblGrid>
                <a:gridCol w="6973920"/>
                <a:gridCol w="1268640"/>
              </a:tblGrid>
              <a:tr h="709560"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9372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Александровский сельсовет» Советского района Курской области"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8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Александровский сельсовет» Советского района Курской области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униципальном образовании «Александровский сельсовет» Советского района Курской области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 "Благоустройство территории  Александровского сельсовета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 » в муниципальном образовании  «Александровский сельсовет» Советского района Курской области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муниципальной службы  в муниципальном образовании Александровский сельсовет Советского района Советского района Курской области 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642960" y="785880"/>
            <a:ext cx="81979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040" y="936720"/>
          <a:ext cx="8242200" cy="4198680"/>
        </p:xfrm>
        <a:graphic>
          <a:graphicData uri="http://schemas.openxmlformats.org/drawingml/2006/table">
            <a:tbl>
              <a:tblPr/>
              <a:tblGrid>
                <a:gridCol w="6648480"/>
                <a:gridCol w="1593720"/>
              </a:tblGrid>
              <a:tr h="709560"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020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Александровс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344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Александровс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 Муниципальная программа «Развитие и укрепление материально-технической базы муниципального образования «Александровский сельсовет Советского района Курской 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68360" y="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Александр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2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571680" y="785880"/>
            <a:ext cx="8269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Александровского сельсовета Советского района Курской области – 2382,2 тыс. рублей, в том числе по направлениям: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9640" y="1428840"/>
          <a:ext cx="8242560" cy="5203800"/>
        </p:xfrm>
        <a:graphic>
          <a:graphicData uri="http://schemas.openxmlformats.org/drawingml/2006/table">
            <a:tbl>
              <a:tblPr/>
              <a:tblGrid>
                <a:gridCol w="6973920"/>
                <a:gridCol w="1268640"/>
              </a:tblGrid>
              <a:tr h="709200"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648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Александровский сельсовет» Советского района Курской области"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2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Александр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униципальном образовании «Александр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 "Благоустройство территории  Александровского сельсовета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 » в муниципальном образовании  «Александр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 spokes="8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642960" y="785880"/>
            <a:ext cx="81979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0040" y="936720"/>
          <a:ext cx="8242200" cy="5499000"/>
        </p:xfrm>
        <a:graphic>
          <a:graphicData uri="http://schemas.openxmlformats.org/drawingml/2006/table">
            <a:tbl>
              <a:tblPr/>
              <a:tblGrid>
                <a:gridCol w="6648480"/>
                <a:gridCol w="1593720"/>
              </a:tblGrid>
              <a:tr h="709560"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2580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9996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муниципальной службы  в муниципальном образовании «Александровский сельсовет» Советского район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344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Александровс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344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Александровс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32472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 Муниципальная программа «Развитие и укрепление материально-технической базы муниципального образования «Александровский сельсовет Советского района Курской 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452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113976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Александр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14720" y="3786120"/>
          <a:ext cx="4152600" cy="2286000"/>
        </p:xfrm>
        <a:graphic>
          <a:graphicData uri="http://schemas.openxmlformats.org/drawingml/2006/table">
            <a:tbl>
              <a:tblPr/>
              <a:tblGrid>
                <a:gridCol w="4152600"/>
              </a:tblGrid>
              <a:tr h="81612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10584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5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Александр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Александр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14720" y="3786120"/>
          <a:ext cx="4152600" cy="2286000"/>
        </p:xfrm>
        <a:graphic>
          <a:graphicData uri="http://schemas.openxmlformats.org/drawingml/2006/table">
            <a:tbl>
              <a:tblPr/>
              <a:tblGrid>
                <a:gridCol w="4152600"/>
              </a:tblGrid>
              <a:tr h="81612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10584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2064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15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Александр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Александр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14720" y="3786120"/>
          <a:ext cx="4152600" cy="2286000"/>
        </p:xfrm>
        <a:graphic>
          <a:graphicData uri="http://schemas.openxmlformats.org/drawingml/2006/table">
            <a:tbl>
              <a:tblPr/>
              <a:tblGrid>
                <a:gridCol w="4152600"/>
              </a:tblGrid>
              <a:tr h="81612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10584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2064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15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Александр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Александровского сельсовета Советского района Курской области на 2020 год и плановый период 2021 и 2022 годов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Д. Сорокина – начальник отдела бухгалтерского учета и отчетности Александр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Александр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8e3e6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07, Курская область, Советский район д.Александр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Александр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44-3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44-3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aleksovet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2087640" y="274680"/>
            <a:ext cx="61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0120" indent="-330120">
              <a:spcBef>
                <a:spcPts val="7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048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539640" y="714240"/>
            <a:ext cx="822960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Основные характеристики  бюджета Александровского сельсовета Советского района Курской области на 2020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28800" y="1714680"/>
          <a:ext cx="7080120" cy="4348080"/>
        </p:xfrm>
        <a:graphic>
          <a:graphicData uri="http://schemas.openxmlformats.org/drawingml/2006/table">
            <a:tbl>
              <a:tblPr/>
              <a:tblGrid>
                <a:gridCol w="4844880"/>
                <a:gridCol w="2235240"/>
              </a:tblGrid>
              <a:tr h="725760">
                <a:tc>
                  <a:txBody>
                    <a:bodyPr lIns="90000" rIns="90000" tIns="4042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432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0428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38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523440" bIns="46800" anchor="ctr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042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926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523440" bIns="46800" anchor="ctr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042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300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523440" bIns="46800" anchor="ctr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042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73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Основные характеристики  бюджета Александровского сельсовета Советского района Курской области на плановый период 2021 и 2022 годов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28800" y="2060640"/>
          <a:ext cx="7080120" cy="4470480"/>
        </p:xfrm>
        <a:graphic>
          <a:graphicData uri="http://schemas.openxmlformats.org/drawingml/2006/table">
            <a:tbl>
              <a:tblPr/>
              <a:tblGrid>
                <a:gridCol w="4844880"/>
                <a:gridCol w="1117800"/>
                <a:gridCol w="1117440"/>
              </a:tblGrid>
              <a:tr h="725760">
                <a:tc>
                  <a:txBody>
                    <a:bodyPr lIns="90000" rIns="90000" tIns="4042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36432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160">
                <a:tc rowSpan="2">
                  <a:txBody>
                    <a:bodyPr lIns="90000" rIns="90000" tIns="40428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438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438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1г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438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2 г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15400">
                <a:tc>
                  <a:txBody>
                    <a:bodyPr lIns="90000" rIns="90000" tIns="523440" bIns="46800" anchor="ctr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042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54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042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71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15400">
                <a:tc>
                  <a:txBody>
                    <a:bodyPr lIns="90000" rIns="90000" tIns="523440" bIns="46800" anchor="ctr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042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54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042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71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15400">
                <a:tc>
                  <a:txBody>
                    <a:bodyPr lIns="90000" rIns="90000" tIns="523440" bIns="46800" anchor="ctr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042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042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3"/>
          <p:cNvSpPr/>
          <p:nvPr/>
        </p:nvSpPr>
        <p:spPr>
          <a:xfrm>
            <a:off x="403200" y="1297080"/>
            <a:ext cx="2556000" cy="2558880"/>
          </a:xfrm>
          <a:prstGeom prst="ellipse">
            <a:avLst/>
          </a:prstGeom>
          <a:gradFill rotWithShape="0">
            <a:gsLst>
              <a:gs pos="0">
                <a:srgbClr val="d6e0ff"/>
              </a:gs>
              <a:gs pos="100000">
                <a:srgbClr val="3366ff"/>
              </a:gs>
            </a:gsLst>
            <a:lin ang="27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lin ang="189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5422680" y="2637000"/>
            <a:ext cx="89028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 flipV="1">
            <a:off x="4500720" y="3776760"/>
            <a:ext cx="1440" cy="3124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357120"/>
          <a:ext cx="9117000" cy="8753400"/>
        </p:xfrm>
        <a:graphic>
          <a:graphicData uri="http://schemas.openxmlformats.org/drawingml/2006/table">
            <a:tbl>
              <a:tblPr/>
              <a:tblGrid>
                <a:gridCol w="738360"/>
                <a:gridCol w="4867200"/>
                <a:gridCol w="877680"/>
                <a:gridCol w="804960"/>
                <a:gridCol w="1023840"/>
                <a:gridCol w="804960"/>
              </a:tblGrid>
              <a:tr h="274680">
                <a:tc gridSpan="2" rowSpan="2">
                  <a:txBody>
                    <a:bodyPr lIns="90000" rIns="90000" tIns="16632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16632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6632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6632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6632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6632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 rowSpan="20">
                  <a:txBody>
                    <a:bodyPr lIns="90000" rIns="90000" tIns="16632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2860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rowSpan="3">
                  <a:txBody>
                    <a:bodyPr lIns="36000" rIns="36000" tIns="155520" bIns="360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rowSpan="2">
                  <a:txBody>
                    <a:bodyPr lIns="90000" rIns="90000" tIns="16632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648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8648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Структура расходов бюджета Александр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о разделам функциональной классификации на 2020 год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71760" y="1071720"/>
          <a:ext cx="6719760" cy="5583240"/>
        </p:xfrm>
        <a:graphic>
          <a:graphicData uri="http://schemas.openxmlformats.org/drawingml/2006/table">
            <a:tbl>
              <a:tblPr/>
              <a:tblGrid>
                <a:gridCol w="647640"/>
                <a:gridCol w="3101760"/>
                <a:gridCol w="2970360"/>
              </a:tblGrid>
              <a:tr h="515520"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85840" bIns="46800" anchor="ctr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1444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476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0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5520">
                <a:tc>
                  <a:txBody>
                    <a:bodyPr lIns="90000" rIns="90000" tIns="284760" bIns="46800" anchor="t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476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9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708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4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285840" bIns="46800" anchor="b">
                      <a:noAutofit/>
                    </a:bodyPr>
                    <a:p>
                      <a:pPr algn="ct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85840" bIns="46800" anchor="b">
                      <a:noAutofit/>
                    </a:bodyPr>
                    <a:p>
                      <a:pPr algn="r">
                        <a:lnSpc>
                          <a:spcPct val="6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Nadezhda</dc:creator>
  <dc:description/>
  <dc:language>en-US</dc:language>
  <cp:lastModifiedBy>Name</cp:lastModifiedBy>
  <cp:lastPrinted>2015-12-29T07:13:55Z</cp:lastPrinted>
  <dcterms:modified xsi:type="dcterms:W3CDTF">2019-12-31T07:30:44Z</dcterms:modified>
  <cp:revision>518</cp:revision>
  <dc:subject/>
  <dc:title>Слайд 1</dc:title>
</cp:coreProperties>
</file>