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3D778-ACE5-485E-AEF3-5C6B31D9411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1BC3E-A904-496C-9C0C-50DF69F32A0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B7A6E-5725-4E6D-A067-200EFC70B1D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53CD9-CFDC-455F-968E-441991B359E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B009E-6DDB-48A9-A9C9-7E77D6722D4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FC47A-B7ED-4E3A-9154-6C1F623814B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4DED8-9EF3-4BA9-BCC9-C0C1C180D99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315B1-3DAC-4FEE-B0A3-3DC6A84F6E2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ACFFA-ABCA-4200-97AF-926C0AED7E1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48ADC-5B35-4852-BAD3-DCDA24918CC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B5B9D-DCB0-4A1A-B6E5-63B2B4569A7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987C3-B927-4ED2-92D0-12B2CD8BD9F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55DB9-088C-42A9-981B-6D1B1A07C2A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8D759-792F-41A9-B35A-9D1DF234BAB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9EBCE-10D3-49B7-BD05-F298602E990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FE48B-1EAD-40A8-90A7-AAFAAC8A9DB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261-C7B1-4A23-9759-BD73B573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9E9D-EBDB-48FC-ADD3-77913721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AE30-32C9-4B5D-91EF-3C077938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262B-C02C-4423-9712-4122C0E1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67BA-E6EC-4819-994D-3AB9BB71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9804-F197-4367-A7C0-170A3E3B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4C01-0E0C-40CD-842D-83101E48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3931-DFAB-4FA6-AF99-7A70781D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8022-821E-40B2-98AB-BB65241F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F39A-F69C-46F7-A092-D40ECF68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F7B2-E785-4050-9DB9-7952F824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F01-06AF-451D-89C1-22651E10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16FF-A6FB-4E18-BB01-0C4DC7C3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C2DF-7BA2-47D8-AC93-BFE8A1E2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2842-B1F8-4E3B-BE90-F25E11EE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1169-9BA1-4422-ACF0-329A6131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A0DA-02B9-4227-9B21-49E7C1CB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2231-2974-4D3A-9429-5C93F756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BA5B9-522B-438C-8A5D-9E90CBC4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142C3-3CFC-4528-ACB9-2EC45FAD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48A8-239E-40DA-9844-135D0C36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18123-9875-41D4-97D5-932909FE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27C-B453-4855-A9EE-E779F808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FBDD4-860D-4D9C-A169-B7A7F585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794CC-4995-4E83-93C8-76ACA5C0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C783-62EE-4109-9AF1-158F602F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BCBF3-22DB-4A69-8C1B-AEEA03BE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F95F9-9291-4A66-BF57-D8E7B830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AF6EF-053F-445C-AE8B-77599EDF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59321-B31F-4CB8-A316-6C8BF884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B56AC-B25F-422B-9D79-2468C5BE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B9657-FDFD-4E8C-A2BA-368EEF62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3C1BD-E519-4099-9F79-C9AE225C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47E-36BD-4808-ABC5-B8EBC0AF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281D9-278E-4AA2-9E3F-0AEF207C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43234-E59D-459B-89BF-7C9FBE12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81ACB-EC74-444C-A034-C7F3D03C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B87FB-6BC5-4B04-A452-8D9A8388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5E9D0-36F3-4F6C-A412-4C4B4D8F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E31CA-59BB-44F2-8BA4-D1803B92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52D8C-A8CC-4AF6-97C7-9E3326B6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2CC3E-70D0-472A-817E-C7C4AAD7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D6155-A12A-4CAF-975B-DA8FEA8F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E5021-929C-4104-8A16-F704AA6E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07D-A175-4FBC-8D38-5367DCD2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F3A56-E9FB-4DBF-9A45-AA29EB64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4A5E5-CA11-4ABC-BE27-27A6265D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239C3-147C-4BA1-AF76-D9E1C62E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060E8-D693-4E71-8D93-F4D00EB3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7B788-64AF-4C63-BF28-8FC570EC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82521-A757-4532-848E-93124CEB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2A783-5650-46F0-B8BF-E378A15D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7FE51-0708-40F6-929A-16980A98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468D3-D6C9-4E96-AEF4-1CC8F6CC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E12FE-339B-49C7-BB69-E8669F12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CE3-BF27-44B7-93A6-AA2FCA8F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EA8F4-BF06-450E-B0C5-30C4BAAA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671EB-26A6-4C09-A70A-A914AFE9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411A8-D7B9-4108-8B79-F6F81DB7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48EA1-1883-436B-AFEF-37DFF538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A5AFA-D1B5-489A-9BDE-A76EB23B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4C1CA-A426-4B15-A078-E75CF362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C5E30-CA2F-4A9E-A5AC-39F60ACE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1C156-E233-42E9-AB7B-5A70A89D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F1A99-F7BE-4781-955F-73A3EC7B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68C19-4266-40DF-A14E-C9D2EACF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FFA-EAF1-4752-A4B7-E056C669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E8365-4EB4-40EE-BF36-D2BCD271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AEBEA-CB64-4C37-BBC7-3F8636F5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B5994-342F-485F-97C1-1579668F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0ECB1-746D-4B75-9234-EDC44BF5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A1DD9-8E75-4DBF-95E1-39C94E25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61F26-0D88-4449-930C-75CB34EB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56AC7-945F-468C-AAC3-2C6AD516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AA9F6-D99B-47FE-81AF-A3181FD1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F7E1A-8F9B-4C01-A5F0-951AAF5C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5F2EE-EBB3-41D0-8BE3-D99CA3A9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30C-8DA5-40A2-A602-741F5E72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7B182-D00F-4B97-AB83-4CC2A796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8343C-6A5A-4287-A7D0-4B8EF56A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90F09-9230-49A3-9850-0505E176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EC771-019F-480C-8CD0-080B5E57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35DE6-9124-4434-A7E1-A4FCC7BD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AA5-E3E2-47B1-87FB-1BC9307C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376112-6CA6-4243-B1CB-38F0BA7D244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19B980-6322-41D7-AD6A-6CC7423416B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E77780-D899-4836-9304-3856F92F1E4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BBCEDD-3B71-47F7-9780-E60D5FF2A30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BE271B-95F1-4745-A31A-69BCD9CA53B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1A7D55-3C10-49A7-B531-BA715541E4D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9199BE-EFB1-4850-A5E1-0CA1E23AFE6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ext Box 1" descr=""/>
          <p:cNvPicPr/>
          <p:nvPr/>
        </p:nvPicPr>
        <p:blipFill>
          <a:blip r:embed="rId1"/>
          <a:stretch/>
        </p:blipFill>
        <p:spPr>
          <a:xfrm>
            <a:off x="1152360" y="2017800"/>
            <a:ext cx="7302600" cy="31399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б  исполнению бюджета  Александровского сельсовета Советского района  Курской области за 2020 год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914040" y="1928520"/>
            <a:ext cx="3352680" cy="1500120"/>
          </a:xfrm>
          <a:prstGeom prst="rect">
            <a:avLst/>
          </a:prstGeom>
          <a:solidFill>
            <a:srgbClr val="83d3fe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Исполнение в 2020 году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2937,7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713880" y="500040"/>
            <a:ext cx="7572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Исполнение Муниципальной программы «Развитие культуры в муниципальном образовании «Александровский сельсовет Советского района Курской области» за 2020 год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4" name="Рисунок 3" descr=""/>
          <p:cNvPicPr/>
          <p:nvPr/>
        </p:nvPicPr>
        <p:blipFill>
          <a:blip r:embed="rId1"/>
          <a:stretch/>
        </p:blipFill>
        <p:spPr>
          <a:xfrm>
            <a:off x="4846680" y="1792440"/>
            <a:ext cx="3443400" cy="77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192240" y="404640"/>
            <a:ext cx="8772480" cy="1584360"/>
          </a:xfrm>
          <a:custGeom>
            <a:avLst/>
            <a:gdLst/>
            <a:ahLst/>
            <a:rect l="l" t="t" r="r" b="b"/>
            <a:pathLst>
              <a:path w="8773164" h="1828802">
                <a:moveTo>
                  <a:pt x="0" y="59377"/>
                </a:moveTo>
                <a:lnTo>
                  <a:pt x="8773164" y="0"/>
                </a:lnTo>
                <a:lnTo>
                  <a:pt x="8773164" y="908050"/>
                </a:lnTo>
                <a:cubicBezTo>
                  <a:pt x="8642954" y="906208"/>
                  <a:pt x="8310865" y="1830642"/>
                  <a:pt x="8180655" y="1828800"/>
                </a:cubicBezTo>
                <a:lnTo>
                  <a:pt x="59376" y="908050"/>
                </a:lnTo>
                <a:lnTo>
                  <a:pt x="0" y="5937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Заголовок 4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5bd078"/>
          </a:solidFill>
          <a:ln w="15840">
            <a:solidFill>
              <a:srgbClr val="2d6b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  <a:ea typeface="Microsoft YaHei"/>
              </a:rPr>
              <a:t>Исполнения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  <a:ea typeface="Microsoft YaHei"/>
              </a:rPr>
              <a:t>Муниципальной программы «Обеспечение доступным и комфортным жильем и коммунальными услугами граждан в  МО «Александровский сельсовет Советского района Курской области»  за 2020 год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Блок-схема: перфолента 5"/>
          <p:cNvSpPr/>
          <p:nvPr/>
        </p:nvSpPr>
        <p:spPr>
          <a:xfrm>
            <a:off x="5508720" y="1430280"/>
            <a:ext cx="3311280" cy="1295280"/>
          </a:xfrm>
          <a:prstGeom prst="flowChartPunchedTap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ndara"/>
              </a:rPr>
              <a:t>Цель программы - комплексное решение проблем благоустройства и улучшения внешнего вида территории поселения задач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8" name="Скругленный прямоугольник 8"/>
          <p:cNvGrpSpPr/>
          <p:nvPr/>
        </p:nvGrpSpPr>
        <p:grpSpPr>
          <a:xfrm>
            <a:off x="5742000" y="2724120"/>
            <a:ext cx="3316320" cy="1860480"/>
            <a:chOff x="5742000" y="2724120"/>
            <a:chExt cx="3316320" cy="1860480"/>
          </a:xfrm>
        </p:grpSpPr>
        <p:pic>
          <p:nvPicPr>
            <p:cNvPr id="419" name="Скругленный 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5742000" y="2724120"/>
              <a:ext cx="331632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899320" y="2859120"/>
              <a:ext cx="300168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Задачи программы: 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-</a:t>
              </a: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организация освещения улиц; 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- </a:t>
              </a: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организация благоустройства и озеленения территории поселения; 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-</a:t>
              </a: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содержание и ремонт дорожной сети; 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- </a:t>
              </a: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организация и содержание мест захоронения; 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-</a:t>
              </a: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организация прочих мероприятий по благоустройству поселения </a:t>
              </a: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.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1" name="Блок-схема: данные 9"/>
          <p:cNvSpPr/>
          <p:nvPr/>
        </p:nvSpPr>
        <p:spPr>
          <a:xfrm>
            <a:off x="5148360" y="4724280"/>
            <a:ext cx="3995640" cy="1584360"/>
          </a:xfrm>
          <a:prstGeom prst="flowChartInputOutput">
            <a:avLst/>
          </a:prstGeom>
          <a:solidFill>
            <a:srgbClr val="f5c0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Candara"/>
              </a:rPr>
              <a:t>Ожидаемый результат: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ndara"/>
              </a:rPr>
              <a:t>-</a:t>
            </a:r>
            <a:r>
              <a:rPr b="1" lang="ru-RU" sz="1000" spc="-1" strike="noStrike">
                <a:solidFill>
                  <a:srgbClr val="c00000"/>
                </a:solidFill>
                <a:latin typeface="Candara"/>
              </a:rPr>
              <a:t>увеличение уровня озеленения территории поселения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ndara"/>
              </a:rPr>
              <a:t>- </a:t>
            </a:r>
            <a:r>
              <a:rPr b="1" lang="ru-RU" sz="1000" spc="-1" strike="noStrike">
                <a:solidFill>
                  <a:srgbClr val="c00000"/>
                </a:solidFill>
                <a:latin typeface="Candara"/>
              </a:rPr>
              <a:t>увеличение про инвентаризованных зеленых насаждений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ndara"/>
              </a:rPr>
              <a:t>- </a:t>
            </a:r>
            <a:r>
              <a:rPr b="1" lang="ru-RU" sz="1000" spc="-1" strike="noStrike">
                <a:solidFill>
                  <a:srgbClr val="c00000"/>
                </a:solidFill>
                <a:latin typeface="Candara"/>
              </a:rPr>
              <a:t>очистки и благоустройство территории кладбищ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ndara"/>
              </a:rPr>
              <a:t>- </a:t>
            </a:r>
            <a:r>
              <a:rPr b="1" lang="ru-RU" sz="1000" spc="-1" strike="noStrike">
                <a:solidFill>
                  <a:srgbClr val="c00000"/>
                </a:solidFill>
                <a:latin typeface="Candara"/>
              </a:rPr>
              <a:t>проведение организационно-хозяйственных мероприятий по сбору и вывозу мусора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Picture 33" descr=""/>
          <p:cNvPicPr/>
          <p:nvPr/>
        </p:nvPicPr>
        <p:blipFill>
          <a:blip r:embed="rId2"/>
          <a:stretch/>
        </p:blipFill>
        <p:spPr>
          <a:xfrm>
            <a:off x="1000080" y="1643040"/>
            <a:ext cx="2529000" cy="1643040"/>
          </a:xfrm>
          <a:prstGeom prst="rect">
            <a:avLst/>
          </a:prstGeom>
          <a:ln w="0">
            <a:noFill/>
          </a:ln>
        </p:spPr>
      </p:pic>
      <p:sp>
        <p:nvSpPr>
          <p:cNvPr id="423" name="Скругленный прямоугольник 11"/>
          <p:cNvSpPr/>
          <p:nvPr/>
        </p:nvSpPr>
        <p:spPr>
          <a:xfrm>
            <a:off x="2798640" y="3571920"/>
            <a:ext cx="259236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484d1"/>
              </a:gs>
            </a:gsLst>
            <a:lin ang="5400000"/>
          </a:gradFill>
          <a:ln w="93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Исполнение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2020го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217,6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Picture 16" descr="C:\Users\Irina\Desktop\усикова\IMG_1089.JPG"/>
          <p:cNvPicPr/>
          <p:nvPr/>
        </p:nvPicPr>
        <p:blipFill>
          <a:blip r:embed="rId3"/>
          <a:stretch/>
        </p:blipFill>
        <p:spPr>
          <a:xfrm>
            <a:off x="1071720" y="4572000"/>
            <a:ext cx="2392200" cy="17953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Исполнение Муниципальной программы «</a:t>
            </a:r>
            <a:r>
              <a:rPr b="1" lang="en-US" sz="1400" spc="-1" strike="noStrike">
                <a:solidFill>
                  <a:srgbClr val="000000"/>
                </a:solidFill>
                <a:latin typeface="Candara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оциальная  поддержка граждан в муниципальном образовании «Александровский сельсовет Советского района Курской области» за 2020 год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6" name="Прямоугольник 1"/>
          <p:cNvSpPr/>
          <p:nvPr/>
        </p:nvSpPr>
        <p:spPr>
          <a:xfrm>
            <a:off x="5786280" y="3071880"/>
            <a:ext cx="2428920" cy="164304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Исполнени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202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545,6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Блок-схема: процесс 2"/>
          <p:cNvSpPr/>
          <p:nvPr/>
        </p:nvSpPr>
        <p:spPr>
          <a:xfrm flipV="1">
            <a:off x="5572080" y="2214360"/>
            <a:ext cx="3095640" cy="7128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 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5786280" y="3071880"/>
            <a:ext cx="2428920" cy="164304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Исполнени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в  2020 году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545,6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Исполнен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Муниципальной программы «Защита населения и территории от чрезвычайных ситуаций, обеспечение пожарной безопасности и безопасности людей на водных объектах в муниципальном образовании «Александровский сельсовет» Советского района Курской области» за 2020год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2519280" cy="1760400"/>
          </a:xfrm>
          <a:prstGeom prst="rect">
            <a:avLst/>
          </a:prstGeom>
          <a:ln w="0">
            <a:noFill/>
          </a:ln>
        </p:spPr>
      </p:pic>
      <p:sp>
        <p:nvSpPr>
          <p:cNvPr id="431" name="Блок-схема: процесс 2"/>
          <p:cNvSpPr/>
          <p:nvPr/>
        </p:nvSpPr>
        <p:spPr>
          <a:xfrm>
            <a:off x="250920" y="1484280"/>
            <a:ext cx="3241440" cy="1260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4bb49"/>
              </a:gs>
            </a:gsLst>
            <a:lin ang="5400000"/>
          </a:gradFill>
          <a:ln w="9360">
            <a:solidFill>
              <a:srgbClr val="f5c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Цель программы – усиление мер по защите населения, объектов первоочередной значимости, от чрезвычайных ситуаций и угрозы их возникновения, а создание необходимых условий для укрепления пожарной безопасности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Прямоугольник 3"/>
          <p:cNvSpPr/>
          <p:nvPr/>
        </p:nvSpPr>
        <p:spPr>
          <a:xfrm>
            <a:off x="826920" y="2744640"/>
            <a:ext cx="3961080" cy="20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bb49"/>
              </a:gs>
            </a:gsLst>
            <a:lin ang="5400000"/>
          </a:gradFill>
          <a:ln w="9360">
            <a:solidFill>
              <a:srgbClr val="f5c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Задачи программы: - проведение воспитательной, пропагандистской работы с населением;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укрепление материально-технической базы подразделений пожарной охраны;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создание необходимых условий для укрепления пожарной безопасности на территории поселения, уменьшение гибели, травматизма людей и размера материальных потерь от пожаров.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2"/>
          <a:stretch/>
        </p:blipFill>
        <p:spPr>
          <a:xfrm>
            <a:off x="5759280" y="4797360"/>
            <a:ext cx="2192400" cy="1608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4" descr=""/>
          <p:cNvPicPr/>
          <p:nvPr/>
        </p:nvPicPr>
        <p:blipFill>
          <a:blip r:embed="rId3"/>
          <a:stretch/>
        </p:blipFill>
        <p:spPr>
          <a:xfrm>
            <a:off x="6135840" y="5013360"/>
            <a:ext cx="720720" cy="70308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5"/>
          <p:cNvSpPr/>
          <p:nvPr/>
        </p:nvSpPr>
        <p:spPr>
          <a:xfrm>
            <a:off x="611280" y="5013360"/>
            <a:ext cx="4608360" cy="184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bb49"/>
              </a:gs>
            </a:gsLst>
            <a:lin ang="5400000"/>
          </a:gradFill>
          <a:ln w="9360">
            <a:solidFill>
              <a:srgbClr val="f5c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Основные мероприятия программы: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 обеспечение беспрепятственного проезда пожарной техники к месту забора воды (расчистка в зимнее время дорог, ремонт дорог)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 организация пожарного водоснабжения населенных пунктов (строительство и оборудование пирсов, содержание противопожарных прорубей, установка указателей противопожарных водоемов, установка освещения противопожарных прорубей)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 опашка и создание минерализованных полос вокруг населенных пунктов в пожароопасный период.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Скругленный прямоугольник 6"/>
          <p:cNvSpPr/>
          <p:nvPr/>
        </p:nvSpPr>
        <p:spPr>
          <a:xfrm>
            <a:off x="6012000" y="3645000"/>
            <a:ext cx="25207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Исполнения в 2020году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29,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Исполнени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Муниципальной программы «Развитие и использование информационных и телекоммуникационных технологий в Администрации Александровского сельсовета Советского района Курской области за 2020год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8" name="Picture 3" descr="C:\Users\Irina\Desktop\почта\img18.jpg"/>
          <p:cNvPicPr/>
          <p:nvPr/>
        </p:nvPicPr>
        <p:blipFill>
          <a:blip r:embed="rId1"/>
          <a:stretch/>
        </p:blipFill>
        <p:spPr>
          <a:xfrm>
            <a:off x="458640" y="1557360"/>
            <a:ext cx="2448000" cy="1835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C:\Users\Irina\Desktop\почта\smev.png"/>
          <p:cNvPicPr/>
          <p:nvPr/>
        </p:nvPicPr>
        <p:blipFill>
          <a:blip r:embed="rId2"/>
          <a:stretch/>
        </p:blipFill>
        <p:spPr>
          <a:xfrm>
            <a:off x="3635280" y="1397160"/>
            <a:ext cx="4303800" cy="2581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C:\Users\Irina\Desktop\почта\img3.jpg"/>
          <p:cNvPicPr/>
          <p:nvPr/>
        </p:nvPicPr>
        <p:blipFill>
          <a:blip r:embed="rId3"/>
          <a:stretch/>
        </p:blipFill>
        <p:spPr>
          <a:xfrm>
            <a:off x="492120" y="3500280"/>
            <a:ext cx="3287880" cy="246708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1"/>
          <p:cNvSpPr/>
          <p:nvPr/>
        </p:nvSpPr>
        <p:spPr>
          <a:xfrm>
            <a:off x="4788000" y="4149720"/>
            <a:ext cx="3887640" cy="201600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Исполнения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в 2020 году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124,6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ИсполнеИсполнени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Исполнение муниципальной программы «Повышение эффективности работы с молодежью, организация отдыха и оздоровления детей, молодежи, развитие физической культуры и спорта  в м.о. «Александровский сельсовет» Советского района Курской области» за 2020год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76440" y="2679480"/>
            <a:ext cx="3466800" cy="1392120"/>
          </a:xfrm>
          <a:prstGeom prst="rect">
            <a:avLst/>
          </a:prstGeom>
          <a:solidFill>
            <a:srgbClr val="b9d6fb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сполнение в 2020 году  531,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645080" y="2679480"/>
            <a:ext cx="3927600" cy="2749320"/>
          </a:xfrm>
          <a:prstGeom prst="rect">
            <a:avLst/>
          </a:prstGeom>
          <a:solidFill>
            <a:srgbClr val="b9d6fb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Создание условий  для укрепления здоровья населения,  популяризации массового спорта  и приобщения различных слоев населения к регулярным занятиям  физической  культурой и спортом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Повышение роли физической культуры и спорта в формировании здорового образа  жизни населения муниципального образования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Исполнен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Муниципальной  программы «Развитие и укрепление материально-технической базы муниципального образования «Александровский сельсовет»  Советского района Курской области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за 2020 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Прямоугольник 1"/>
          <p:cNvSpPr/>
          <p:nvPr/>
        </p:nvSpPr>
        <p:spPr>
          <a:xfrm>
            <a:off x="6494400" y="1703520"/>
            <a:ext cx="2303640" cy="91440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Исполн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202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848,5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Прямоугольник 2"/>
          <p:cNvSpPr/>
          <p:nvPr/>
        </p:nvSpPr>
        <p:spPr>
          <a:xfrm>
            <a:off x="1500120" y="2857680"/>
            <a:ext cx="3786120" cy="314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Автоматизация  работ и услуг, улучшение качества предоставляемой отчетности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- материально-техническое обеспечение учреждений муниципального образования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-формирование имиджа Александровский  с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8" name="Picture 15" descr=""/>
          <p:cNvPicPr/>
          <p:nvPr/>
        </p:nvPicPr>
        <p:blipFill>
          <a:blip r:embed="rId1"/>
          <a:stretch/>
        </p:blipFill>
        <p:spPr>
          <a:xfrm>
            <a:off x="5962680" y="3252960"/>
            <a:ext cx="3155760" cy="2097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6" descr=""/>
          <p:cNvPicPr/>
          <p:nvPr/>
        </p:nvPicPr>
        <p:blipFill>
          <a:blip r:embed="rId2"/>
          <a:stretch/>
        </p:blipFill>
        <p:spPr>
          <a:xfrm>
            <a:off x="6494400" y="5529240"/>
            <a:ext cx="19652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468360" y="404640"/>
            <a:ext cx="82296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полн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й  программы «Развитие муниципальной службы в муниципальном образовании «Александровский сельсовет» Советского района Курской области»         за  2020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Блок-схема: процесс 1"/>
          <p:cNvSpPr/>
          <p:nvPr/>
        </p:nvSpPr>
        <p:spPr>
          <a:xfrm>
            <a:off x="6732720" y="2421000"/>
            <a:ext cx="1417680" cy="1079280"/>
          </a:xfrm>
          <a:prstGeom prst="flowChartProcess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Исполнения за 2020г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18,5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Блок-схема: процесс 3"/>
          <p:cNvSpPr/>
          <p:nvPr/>
        </p:nvSpPr>
        <p:spPr>
          <a:xfrm>
            <a:off x="1042920" y="1413000"/>
            <a:ext cx="3313080" cy="2376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Повышение эффективности и качества муниципального управления при помощи системы профессиональной подготовки, переподготовки, повышения квалификации, а также иных форм обучения муниципальных служащих, ориентированных на решение практических задач органов местного самоуправления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Прямоугольник 4"/>
          <p:cNvSpPr/>
          <p:nvPr/>
        </p:nvSpPr>
        <p:spPr>
          <a:xfrm>
            <a:off x="1187280" y="4149720"/>
            <a:ext cx="5905800" cy="177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Реализация современных программ переподготовки и повышения квалификации кадров муниципальной службы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совершенствование системы профессионального развития муниципальных служащих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повышение эффективности работы муниципальных служащих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создание ориентированной на решение практических задач местного самоуправления системы профессиональной переподготовки, повышения квалификации и стажировки муниципальных служащих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8" descr=""/>
          <p:cNvPicPr/>
          <p:nvPr/>
        </p:nvPicPr>
        <p:blipFill>
          <a:blip r:embed="rId1"/>
          <a:stretch/>
        </p:blipFill>
        <p:spPr>
          <a:xfrm>
            <a:off x="4716360" y="2178000"/>
            <a:ext cx="1644840" cy="15652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"/>
          <p:cNvPicPr/>
          <p:nvPr/>
        </p:nvPicPr>
        <p:blipFill>
          <a:blip r:embed="rId2"/>
          <a:stretch/>
        </p:blipFill>
        <p:spPr>
          <a:xfrm>
            <a:off x="7020000" y="3478320"/>
            <a:ext cx="1904760" cy="2781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ЛОССАРИЙ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60200" y="1143000"/>
            <a:ext cx="8659800" cy="542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lnSpc>
                <a:spcPct val="10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73e87"/>
                </a:solidFill>
                <a:latin typeface="Candara"/>
                <a:ea typeface="Microsoft YaHei"/>
              </a:rPr>
              <a:t>БЮДЖЕТ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  <a:ea typeface="Microsoft YaHei"/>
              </a:rPr>
              <a:t>– форма образования и расходования денежных средств, предназначенных для финансового обеспечения задач и функций местного самоуправления;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73e87"/>
                </a:solidFill>
                <a:latin typeface="Candara"/>
                <a:ea typeface="Microsoft YaHei"/>
              </a:rPr>
              <a:t>Бюджетный процесс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  <a:ea typeface="Microsoft YaHei"/>
              </a:rPr>
              <a:t>– регламентируемая законодательством Российской Федерации деятельность органов местного самоуправления и иных участников бюджетного процесса по составлению и рассмотрению проекта бюджета, утверждению и исполнению бюджета, контролю за его исполнением, осуществлению бюджетного учета, составлению, внешней проверке и, рассмотрению и утверждению бюджетной отчетности;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73e87"/>
                </a:solidFill>
                <a:latin typeface="Candara"/>
                <a:ea typeface="Microsoft YaHei"/>
              </a:rPr>
              <a:t>Межбюджетные трансферты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  <a:ea typeface="Microsoft YaHei"/>
              </a:rPr>
              <a:t>– средства, предоставляемые одним бюджетом бюджетной системы Российской Федерации другому бюджету бюджетной системы Российской Федерации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  <a:ea typeface="Microsoft YaHei"/>
              </a:rPr>
              <a:t> </a:t>
            </a:r>
            <a:r>
              <a:rPr b="1" i="1" lang="ru-RU" sz="1600" spc="-1" strike="noStrike">
                <a:solidFill>
                  <a:srgbClr val="073e87"/>
                </a:solidFill>
                <a:latin typeface="Candara"/>
                <a:ea typeface="Microsoft YaHei"/>
              </a:rPr>
              <a:t>Муниципальная программа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  <a:ea typeface="Microsoft YaHei"/>
              </a:rPr>
              <a:t>– документ определяющий, цели и задачи муниципальной политики в определенной сфере, способы их достижения, примерные объемы используемых финансовых результатов;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73e87"/>
                </a:solidFill>
                <a:latin typeface="Candara"/>
                <a:ea typeface="Microsoft YaHei"/>
              </a:rPr>
              <a:t>Непрограммные направления деятельности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  <a:ea typeface="Microsoft YaHei"/>
              </a:rPr>
              <a:t>– не включенные в муниципальные программы направления деятельности органов местного самоуправления и органов местной администрации;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Блок-схема: процесс 3"/>
          <p:cNvSpPr/>
          <p:nvPr/>
        </p:nvSpPr>
        <p:spPr>
          <a:xfrm>
            <a:off x="468360" y="260280"/>
            <a:ext cx="8207280" cy="1368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Непрограммная деятельность органов местного самоуправления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Муниципального образования  «Александровский сельсовет» Советского района Курской области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за 2020 год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Блок-схема: процесс 4"/>
          <p:cNvSpPr/>
          <p:nvPr/>
        </p:nvSpPr>
        <p:spPr>
          <a:xfrm>
            <a:off x="468360" y="1773360"/>
            <a:ext cx="2448000" cy="97128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Обеспечение функционирования высшего должностного лица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Блок-схема: процесс 5"/>
          <p:cNvSpPr/>
          <p:nvPr/>
        </p:nvSpPr>
        <p:spPr>
          <a:xfrm>
            <a:off x="455760" y="2911320"/>
            <a:ext cx="3168360" cy="98280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Обеспечение функционирования местных администраций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Блок-схема: процесс 6"/>
          <p:cNvSpPr/>
          <p:nvPr/>
        </p:nvSpPr>
        <p:spPr>
          <a:xfrm>
            <a:off x="434880" y="4129200"/>
            <a:ext cx="3095640" cy="828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Осуществление первичного воинского учета на территориях, где отсутствуют военные комиссариат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Блок-схема: процесс 7"/>
          <p:cNvSpPr/>
          <p:nvPr/>
        </p:nvSpPr>
        <p:spPr>
          <a:xfrm>
            <a:off x="455760" y="5253120"/>
            <a:ext cx="2282760" cy="612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Реализация мероприятий по распространению официальной информаци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Стрелка вправо 8"/>
          <p:cNvSpPr/>
          <p:nvPr/>
        </p:nvSpPr>
        <p:spPr>
          <a:xfrm>
            <a:off x="3409920" y="2016000"/>
            <a:ext cx="979560" cy="4860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Стрелка вправо 9"/>
          <p:cNvSpPr/>
          <p:nvPr/>
        </p:nvSpPr>
        <p:spPr>
          <a:xfrm>
            <a:off x="3843360" y="306864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Стрелка вправо 10"/>
          <p:cNvSpPr/>
          <p:nvPr/>
        </p:nvSpPr>
        <p:spPr>
          <a:xfrm>
            <a:off x="3624120" y="4240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Стрелка вправо 11"/>
          <p:cNvSpPr/>
          <p:nvPr/>
        </p:nvSpPr>
        <p:spPr>
          <a:xfrm>
            <a:off x="3041640" y="5316480"/>
            <a:ext cx="977760" cy="486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Блок-схема: перфолента 12"/>
          <p:cNvSpPr/>
          <p:nvPr/>
        </p:nvSpPr>
        <p:spPr>
          <a:xfrm>
            <a:off x="7070760" y="1773360"/>
            <a:ext cx="914400" cy="804600"/>
          </a:xfrm>
          <a:prstGeom prst="flowChartPunchedTap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ndara"/>
              </a:rPr>
              <a:t>506,7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Блок-схема: перфолента 13"/>
          <p:cNvSpPr/>
          <p:nvPr/>
        </p:nvSpPr>
        <p:spPr>
          <a:xfrm>
            <a:off x="5985000" y="2666880"/>
            <a:ext cx="914400" cy="804960"/>
          </a:xfrm>
          <a:prstGeom prst="flowChartPunchedTap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ndara"/>
              </a:rPr>
              <a:t>1477,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Блок-схема: перфолента 14"/>
          <p:cNvSpPr/>
          <p:nvPr/>
        </p:nvSpPr>
        <p:spPr>
          <a:xfrm>
            <a:off x="7070760" y="3738600"/>
            <a:ext cx="914400" cy="804960"/>
          </a:xfrm>
          <a:prstGeom prst="flowChartPunchedTap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86,8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Блок-схема: перфолента 15"/>
          <p:cNvSpPr/>
          <p:nvPr/>
        </p:nvSpPr>
        <p:spPr>
          <a:xfrm>
            <a:off x="5986440" y="4997520"/>
            <a:ext cx="914400" cy="804960"/>
          </a:xfrm>
          <a:prstGeom prst="flowChartPunchedTap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ndara"/>
              </a:rPr>
              <a:t>26,8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250920" y="404640"/>
            <a:ext cx="8435880" cy="633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Что такое «Бюджет для граждан?»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«</a:t>
            </a:r>
            <a:r>
              <a:rPr b="0" lang="ru-RU" sz="1800" spc="-1" strike="noStrike">
                <a:solidFill>
                  <a:srgbClr val="0293e0"/>
                </a:solidFill>
                <a:latin typeface="Times New Roman"/>
                <a:ea typeface="Microsoft YaHei"/>
              </a:rPr>
              <a:t>Бюджет для граждан» познакомит вас об исполнении бюджета Александровского сельсовета Советского района Курской области  за  2020 год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Представленная информация предназначена для широкого круга пользователей и будет интересна и полезна как студентам, педагогам, врачам, молодым семьям, так и муниципальным служащим, пенсионерам и другим категориям населения, так как бюджет поселения затрагивает интересы каждого жителя  Александровского сельсовета Советского района Курской области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Мы постарались в доступной и понятной форме для граждан, показать основные показатели исполнения  бюджета нашего сельсовета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3030480" cy="2265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"/>
          <p:cNvPicPr/>
          <p:nvPr/>
        </p:nvPicPr>
        <p:blipFill>
          <a:blip r:embed="rId2"/>
          <a:stretch/>
        </p:blipFill>
        <p:spPr>
          <a:xfrm>
            <a:off x="6300720" y="3860640"/>
            <a:ext cx="2208240" cy="2195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.Н. Митирёва  - глава администрации  Александровского сельсовет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А.Д. Сорокина – начальник отдела бухгалтерского учета и отчетности Администрации Александровского сельсовет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нформация подготовлена Администрацией  Александр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306607, Курская область, Советский район д. Александровк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Администрация Александр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тел.: (47158) 3-44-34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Факс: (47158) 3-44-3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ea typeface="Microsoft YaHei"/>
              </a:rPr>
              <a:t>aleksovet@mail.ru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1"/>
          <p:cNvSpPr/>
          <p:nvPr/>
        </p:nvSpPr>
        <p:spPr>
          <a:xfrm>
            <a:off x="900000" y="2398680"/>
            <a:ext cx="59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льского поселения !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Прямоугольник 2"/>
          <p:cNvSpPr/>
          <p:nvPr/>
        </p:nvSpPr>
        <p:spPr>
          <a:xfrm>
            <a:off x="684360" y="289080"/>
            <a:ext cx="8064360" cy="630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Уважаемые жители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Александровского сельсовета!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Представляем Вашему вниманию информационный материал –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«Бюджет для граждан»,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который в доступной форме познакомит Вас с исполнением основного финансового документа Александровского сельсовета Советского района  Курской области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за 2020 го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Text Box 2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8680" cy="602928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1" descr=""/>
          <p:cNvPicPr/>
          <p:nvPr/>
        </p:nvPicPr>
        <p:blipFill>
          <a:blip r:embed="rId2"/>
          <a:stretch/>
        </p:blipFill>
        <p:spPr>
          <a:xfrm>
            <a:off x="603360" y="4870440"/>
            <a:ext cx="1390680" cy="124452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2"/>
          <p:cNvSpPr/>
          <p:nvPr/>
        </p:nvSpPr>
        <p:spPr>
          <a:xfrm>
            <a:off x="1295280" y="3584520"/>
            <a:ext cx="1393920" cy="1104840"/>
          </a:xfrm>
          <a:prstGeom prst="rect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Рассмотрение</a:t>
            </a:r>
            <a:r>
              <a:rPr b="1" lang="ru-RU" sz="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проекта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бюджета на очередной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год и плановый период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2738520" y="2565360"/>
            <a:ext cx="1368360" cy="914400"/>
          </a:xfrm>
          <a:prstGeom prst="rect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Утверждение</a:t>
            </a:r>
            <a:r>
              <a:rPr b="1" lang="ru-RU" sz="9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проекта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бюджета на очередной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год и плановый период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4211640" y="1650960"/>
            <a:ext cx="1224000" cy="914400"/>
          </a:xfrm>
          <a:prstGeom prst="rect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Исполнение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бюджета в текущем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году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Прямоугольник 5"/>
          <p:cNvSpPr/>
          <p:nvPr/>
        </p:nvSpPr>
        <p:spPr>
          <a:xfrm>
            <a:off x="6012000" y="1650960"/>
            <a:ext cx="1439640" cy="914400"/>
          </a:xfrm>
          <a:prstGeom prst="rect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Формировани</a:t>
            </a:r>
            <a:r>
              <a:rPr b="1" lang="ru-RU" sz="900" spc="-1" strike="noStrike">
                <a:solidFill>
                  <a:srgbClr val="000000"/>
                </a:solidFill>
                <a:latin typeface="Candara"/>
              </a:rPr>
              <a:t>е </a:t>
            </a: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отчета об исполнении бюджета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предыдущего года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Прямоугольник 6"/>
          <p:cNvSpPr/>
          <p:nvPr/>
        </p:nvSpPr>
        <p:spPr>
          <a:xfrm>
            <a:off x="5435640" y="3075120"/>
            <a:ext cx="2665440" cy="1562040"/>
          </a:xfrm>
          <a:prstGeom prst="rect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Утверждение отчета об исполнении бюджета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Предыдущего года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5-конечная звезда 8"/>
          <p:cNvSpPr/>
          <p:nvPr/>
        </p:nvSpPr>
        <p:spPr>
          <a:xfrm>
            <a:off x="1835280" y="2637000"/>
            <a:ext cx="576000" cy="647640"/>
          </a:xfrm>
          <a:custGeom>
            <a:avLst/>
            <a:gdLst/>
            <a:ahLst/>
            <a:rect l="l" t="t" r="r" b="b"/>
            <a:pathLst>
              <a:path w="576263" h="647700">
                <a:moveTo>
                  <a:pt x="1" y="247399"/>
                </a:moveTo>
                <a:lnTo>
                  <a:pt x="220114" y="247400"/>
                </a:lnTo>
                <a:lnTo>
                  <a:pt x="288132" y="0"/>
                </a:lnTo>
                <a:lnTo>
                  <a:pt x="356149" y="247400"/>
                </a:lnTo>
                <a:lnTo>
                  <a:pt x="576262" y="247399"/>
                </a:lnTo>
                <a:lnTo>
                  <a:pt x="398186" y="400299"/>
                </a:lnTo>
                <a:lnTo>
                  <a:pt x="466206" y="647698"/>
                </a:lnTo>
                <a:lnTo>
                  <a:pt x="288132" y="494795"/>
                </a:lnTo>
                <a:lnTo>
                  <a:pt x="110057" y="647698"/>
                </a:lnTo>
                <a:lnTo>
                  <a:pt x="178077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5afbf8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5-конечная звезда 9"/>
          <p:cNvSpPr/>
          <p:nvPr/>
        </p:nvSpPr>
        <p:spPr>
          <a:xfrm>
            <a:off x="7596360" y="2276640"/>
            <a:ext cx="504720" cy="504720"/>
          </a:xfrm>
          <a:custGeom>
            <a:avLst/>
            <a:gdLst/>
            <a:ahLst/>
            <a:rect l="l" t="t" r="r" b="b"/>
            <a:pathLst>
              <a:path w="504825" h="504825">
                <a:moveTo>
                  <a:pt x="1" y="192826"/>
                </a:moveTo>
                <a:lnTo>
                  <a:pt x="192827" y="192827"/>
                </a:lnTo>
                <a:lnTo>
                  <a:pt x="252413" y="0"/>
                </a:lnTo>
                <a:lnTo>
                  <a:pt x="311998" y="192827"/>
                </a:lnTo>
                <a:lnTo>
                  <a:pt x="504824" y="192826"/>
                </a:lnTo>
                <a:lnTo>
                  <a:pt x="348824" y="311998"/>
                </a:lnTo>
                <a:lnTo>
                  <a:pt x="408412" y="504824"/>
                </a:lnTo>
                <a:lnTo>
                  <a:pt x="252413" y="385649"/>
                </a:lnTo>
                <a:lnTo>
                  <a:pt x="96413" y="504824"/>
                </a:lnTo>
                <a:lnTo>
                  <a:pt x="156001" y="311998"/>
                </a:lnTo>
                <a:lnTo>
                  <a:pt x="1" y="192826"/>
                </a:lnTo>
                <a:close/>
              </a:path>
            </a:pathLst>
          </a:custGeom>
          <a:solidFill>
            <a:srgbClr val="5afbf8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5-конечная звезда 10"/>
          <p:cNvSpPr/>
          <p:nvPr/>
        </p:nvSpPr>
        <p:spPr>
          <a:xfrm>
            <a:off x="826920" y="4076640"/>
            <a:ext cx="468360" cy="560520"/>
          </a:xfrm>
          <a:custGeom>
            <a:avLst/>
            <a:gdLst/>
            <a:ahLst/>
            <a:rect l="l" t="t" r="r" b="b"/>
            <a:pathLst>
              <a:path w="468312" h="560388">
                <a:moveTo>
                  <a:pt x="0" y="214049"/>
                </a:moveTo>
                <a:lnTo>
                  <a:pt x="178880" y="214050"/>
                </a:lnTo>
                <a:lnTo>
                  <a:pt x="234156" y="0"/>
                </a:lnTo>
                <a:lnTo>
                  <a:pt x="289432" y="214050"/>
                </a:lnTo>
                <a:lnTo>
                  <a:pt x="468312" y="214049"/>
                </a:lnTo>
                <a:lnTo>
                  <a:pt x="323594" y="346337"/>
                </a:lnTo>
                <a:lnTo>
                  <a:pt x="378872" y="560387"/>
                </a:lnTo>
                <a:lnTo>
                  <a:pt x="234156" y="428095"/>
                </a:lnTo>
                <a:lnTo>
                  <a:pt x="89440" y="560387"/>
                </a:lnTo>
                <a:lnTo>
                  <a:pt x="144718" y="346337"/>
                </a:lnTo>
                <a:lnTo>
                  <a:pt x="0" y="214049"/>
                </a:lnTo>
                <a:close/>
              </a:path>
            </a:pathLst>
          </a:custGeom>
          <a:solidFill>
            <a:srgbClr val="5afbf8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5-конечная звезда 11"/>
          <p:cNvSpPr/>
          <p:nvPr/>
        </p:nvSpPr>
        <p:spPr>
          <a:xfrm>
            <a:off x="3346560" y="1650960"/>
            <a:ext cx="361800" cy="457200"/>
          </a:xfrm>
          <a:custGeom>
            <a:avLst/>
            <a:gdLst/>
            <a:ahLst/>
            <a:rect l="l" t="t" r="r" b="b"/>
            <a:pathLst>
              <a:path w="361950" h="457200">
                <a:moveTo>
                  <a:pt x="0" y="174634"/>
                </a:moveTo>
                <a:lnTo>
                  <a:pt x="138253" y="174636"/>
                </a:lnTo>
                <a:lnTo>
                  <a:pt x="180975" y="0"/>
                </a:lnTo>
                <a:lnTo>
                  <a:pt x="223697" y="174636"/>
                </a:lnTo>
                <a:lnTo>
                  <a:pt x="361950" y="174634"/>
                </a:lnTo>
                <a:lnTo>
                  <a:pt x="250100" y="282564"/>
                </a:lnTo>
                <a:lnTo>
                  <a:pt x="292823" y="457199"/>
                </a:lnTo>
                <a:lnTo>
                  <a:pt x="180975" y="349267"/>
                </a:lnTo>
                <a:lnTo>
                  <a:pt x="69127" y="457199"/>
                </a:lnTo>
                <a:lnTo>
                  <a:pt x="111850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5afbf8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5-конечная звезда 12"/>
          <p:cNvSpPr/>
          <p:nvPr/>
        </p:nvSpPr>
        <p:spPr>
          <a:xfrm>
            <a:off x="5292720" y="1197000"/>
            <a:ext cx="816120" cy="453960"/>
          </a:xfrm>
          <a:custGeom>
            <a:avLst/>
            <a:gdLst/>
            <a:ahLst/>
            <a:rect l="l" t="t" r="r" b="b"/>
            <a:pathLst>
              <a:path w="815975" h="454025">
                <a:moveTo>
                  <a:pt x="1" y="173422"/>
                </a:moveTo>
                <a:lnTo>
                  <a:pt x="311676" y="173423"/>
                </a:lnTo>
                <a:lnTo>
                  <a:pt x="407988" y="0"/>
                </a:lnTo>
                <a:lnTo>
                  <a:pt x="504299" y="173423"/>
                </a:lnTo>
                <a:lnTo>
                  <a:pt x="815974" y="173422"/>
                </a:lnTo>
                <a:lnTo>
                  <a:pt x="563822" y="280602"/>
                </a:lnTo>
                <a:lnTo>
                  <a:pt x="660137" y="454024"/>
                </a:lnTo>
                <a:lnTo>
                  <a:pt x="407988" y="346842"/>
                </a:lnTo>
                <a:lnTo>
                  <a:pt x="155838" y="454024"/>
                </a:lnTo>
                <a:lnTo>
                  <a:pt x="252153" y="280602"/>
                </a:lnTo>
                <a:lnTo>
                  <a:pt x="1" y="173422"/>
                </a:lnTo>
                <a:close/>
              </a:path>
            </a:pathLst>
          </a:custGeom>
          <a:solidFill>
            <a:srgbClr val="5afbf8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468360" y="12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-181080" y="12600"/>
            <a:ext cx="9325080" cy="68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                                                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обственные - НАЛОГОВЫЕ и НЕНАЛОГОВЫЕ ДОХОДЫ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                                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безвозмездные поступления от других бюджетов бюджетной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истемы РФ  - ДОТАЦИИ, СУБСИДИИ, СУБВЕНЦИИ, иные межбюджетные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трансферты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                                               </a:t>
            </a:r>
            <a:r>
              <a:rPr b="1" lang="ru-RU" sz="1200" spc="-1" strike="noStrike">
                <a:solidFill>
                  <a:srgbClr val="021b2b"/>
                </a:solidFill>
                <a:latin typeface="Trebuchet MS"/>
                <a:ea typeface="Microsoft YaHei"/>
              </a:rPr>
              <a:t>совокупность средств, направляемых на оказание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21b2b"/>
                </a:solidFill>
                <a:latin typeface="Trebuchet MS"/>
                <a:ea typeface="Microsoft YaHei"/>
              </a:rPr>
              <a:t>                                                                     </a:t>
            </a:r>
            <a:r>
              <a:rPr b="1" lang="ru-RU" sz="1200" spc="-1" strike="noStrike">
                <a:solidFill>
                  <a:srgbClr val="021b2b"/>
                </a:solidFill>
                <a:latin typeface="Trebuchet MS"/>
                <a:ea typeface="Microsoft YaHei"/>
              </a:rPr>
              <a:t>государственных (муниципальных)  услуг, социальное                     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21b2b"/>
                </a:solidFill>
                <a:latin typeface="Trebuchet MS"/>
                <a:ea typeface="Microsoft YaHei"/>
              </a:rPr>
              <a:t>                                </a:t>
            </a:r>
            <a:r>
              <a:rPr b="1" lang="ru-RU" sz="1200" spc="-1" strike="noStrike">
                <a:solidFill>
                  <a:srgbClr val="021b2b"/>
                </a:solidFill>
                <a:latin typeface="Trebuchet MS"/>
                <a:ea typeface="Microsoft YaHei"/>
              </a:rPr>
              <a:t>обеспечение населения, бюджетные инвестиции, предоставление            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21b2b"/>
                </a:solidFill>
                <a:latin typeface="Trebuchet MS"/>
                <a:ea typeface="Microsoft YaHei"/>
              </a:rPr>
              <a:t>                            </a:t>
            </a:r>
            <a:r>
              <a:rPr b="1" lang="ru-RU" sz="1200" spc="-1" strike="noStrike">
                <a:solidFill>
                  <a:srgbClr val="021b2b"/>
                </a:solidFill>
                <a:latin typeface="Trebuchet MS"/>
                <a:ea typeface="Microsoft YaHei"/>
              </a:rPr>
              <a:t>межбюджетных трансфертов, обслуживание     государственного (муниципального) долга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                                                                   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основополагающее требование, предъявляемое к органам,                                                                                           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оставляющим и утверждающим бюджет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                               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                                 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превышение расходов над доходами                                            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                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(    принимается решение об источниках покрытия                                                превышение доходов над расходами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                            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дефицита- использовать  остатки ,взять в долг  )                                                  (принимается решение об использовании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                                                                                                                                                        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доходов-накапливать резервы, остатки, погашать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долг</a:t>
            </a:r>
            <a:r>
              <a:rPr b="0" lang="ru-RU" sz="9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)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Овал 1"/>
          <p:cNvSpPr/>
          <p:nvPr/>
        </p:nvSpPr>
        <p:spPr>
          <a:xfrm>
            <a:off x="179280" y="758880"/>
            <a:ext cx="1698840" cy="13698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Доходы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бюджет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Штриховая стрелка вправо 3"/>
          <p:cNvSpPr/>
          <p:nvPr/>
        </p:nvSpPr>
        <p:spPr>
          <a:xfrm>
            <a:off x="1639800" y="1746360"/>
            <a:ext cx="792360" cy="484200"/>
          </a:xfrm>
          <a:custGeom>
            <a:avLst/>
            <a:gdLst/>
            <a:ahLst/>
            <a:rect l="l" t="t" r="r" b="b"/>
            <a:pathLst>
              <a:path w="792162" h="484188">
                <a:moveTo>
                  <a:pt x="0" y="121047"/>
                </a:moveTo>
                <a:lnTo>
                  <a:pt x="15131" y="121047"/>
                </a:lnTo>
                <a:lnTo>
                  <a:pt x="15131" y="363141"/>
                </a:lnTo>
                <a:lnTo>
                  <a:pt x="0" y="363141"/>
                </a:lnTo>
                <a:lnTo>
                  <a:pt x="0" y="121047"/>
                </a:lnTo>
                <a:close/>
                <a:moveTo>
                  <a:pt x="30262" y="121047"/>
                </a:moveTo>
                <a:lnTo>
                  <a:pt x="60524" y="121047"/>
                </a:lnTo>
                <a:lnTo>
                  <a:pt x="60524" y="363141"/>
                </a:lnTo>
                <a:lnTo>
                  <a:pt x="30262" y="363141"/>
                </a:lnTo>
                <a:lnTo>
                  <a:pt x="30262" y="121047"/>
                </a:lnTo>
                <a:close/>
                <a:moveTo>
                  <a:pt x="75654" y="121047"/>
                </a:moveTo>
                <a:lnTo>
                  <a:pt x="550068" y="121047"/>
                </a:lnTo>
                <a:lnTo>
                  <a:pt x="550068" y="0"/>
                </a:lnTo>
                <a:lnTo>
                  <a:pt x="792162" y="242094"/>
                </a:lnTo>
                <a:lnTo>
                  <a:pt x="550068" y="484188"/>
                </a:lnTo>
                <a:lnTo>
                  <a:pt x="550068" y="363141"/>
                </a:lnTo>
                <a:lnTo>
                  <a:pt x="75654" y="363141"/>
                </a:lnTo>
                <a:lnTo>
                  <a:pt x="75654" y="121047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Штриховая стрелка вправо 4"/>
          <p:cNvSpPr/>
          <p:nvPr/>
        </p:nvSpPr>
        <p:spPr>
          <a:xfrm>
            <a:off x="1971720" y="1136520"/>
            <a:ext cx="977760" cy="486000"/>
          </a:xfrm>
          <a:custGeom>
            <a:avLst/>
            <a:gdLst/>
            <a:ahLst/>
            <a:rect l="l" t="t" r="r" b="b"/>
            <a:pathLst>
              <a:path w="977900" h="485775">
                <a:moveTo>
                  <a:pt x="0" y="121444"/>
                </a:moveTo>
                <a:lnTo>
                  <a:pt x="15180" y="121444"/>
                </a:lnTo>
                <a:lnTo>
                  <a:pt x="15180" y="364331"/>
                </a:lnTo>
                <a:lnTo>
                  <a:pt x="0" y="364331"/>
                </a:lnTo>
                <a:lnTo>
                  <a:pt x="0" y="121444"/>
                </a:lnTo>
                <a:close/>
                <a:moveTo>
                  <a:pt x="30361" y="121444"/>
                </a:moveTo>
                <a:lnTo>
                  <a:pt x="60722" y="121444"/>
                </a:lnTo>
                <a:lnTo>
                  <a:pt x="60722" y="364331"/>
                </a:lnTo>
                <a:lnTo>
                  <a:pt x="30361" y="364331"/>
                </a:lnTo>
                <a:lnTo>
                  <a:pt x="30361" y="121444"/>
                </a:lnTo>
                <a:close/>
                <a:moveTo>
                  <a:pt x="75902" y="121444"/>
                </a:moveTo>
                <a:lnTo>
                  <a:pt x="735013" y="121444"/>
                </a:lnTo>
                <a:lnTo>
                  <a:pt x="735013" y="0"/>
                </a:lnTo>
                <a:lnTo>
                  <a:pt x="977900" y="242888"/>
                </a:lnTo>
                <a:lnTo>
                  <a:pt x="735013" y="485775"/>
                </a:lnTo>
                <a:lnTo>
                  <a:pt x="735013" y="364331"/>
                </a:lnTo>
                <a:lnTo>
                  <a:pt x="75902" y="364331"/>
                </a:lnTo>
                <a:lnTo>
                  <a:pt x="75902" y="12144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Овал 5"/>
          <p:cNvSpPr/>
          <p:nvPr/>
        </p:nvSpPr>
        <p:spPr>
          <a:xfrm>
            <a:off x="0" y="2635200"/>
            <a:ext cx="2500200" cy="9144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Расходы</a:t>
            </a:r>
            <a:r>
              <a:rPr b="1" lang="ru-RU" sz="1600" spc="-1" strike="noStrike">
                <a:solidFill>
                  <a:srgbClr val="052e65"/>
                </a:solidFill>
                <a:latin typeface="Candara"/>
              </a:rPr>
              <a:t> </a:t>
            </a: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бюджета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Стрелка вправо 6"/>
          <p:cNvSpPr/>
          <p:nvPr/>
        </p:nvSpPr>
        <p:spPr>
          <a:xfrm>
            <a:off x="2425680" y="2679840"/>
            <a:ext cx="523800" cy="484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Овал 7"/>
          <p:cNvSpPr/>
          <p:nvPr/>
        </p:nvSpPr>
        <p:spPr>
          <a:xfrm>
            <a:off x="0" y="3789360"/>
            <a:ext cx="2670120" cy="1224000"/>
          </a:xfrm>
          <a:prstGeom prst="ellipse">
            <a:avLst/>
          </a:prstGeom>
          <a:solidFill>
            <a:srgbClr val="5bbaf6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73e87"/>
                </a:solidFill>
                <a:latin typeface="Candara"/>
              </a:rPr>
              <a:t>Сбалансированность </a:t>
            </a:r>
            <a:r>
              <a:rPr b="1" lang="ru-RU" sz="1400" spc="-1" strike="noStrike">
                <a:solidFill>
                  <a:srgbClr val="262626"/>
                </a:solidFill>
                <a:latin typeface="Candara"/>
              </a:rPr>
              <a:t>бюджета по доходам и расходам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Стрелка вправо с вырезом 8"/>
          <p:cNvSpPr/>
          <p:nvPr/>
        </p:nvSpPr>
        <p:spPr>
          <a:xfrm>
            <a:off x="2521080" y="4216320"/>
            <a:ext cx="977760" cy="48420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Трапеция 12"/>
          <p:cNvSpPr/>
          <p:nvPr/>
        </p:nvSpPr>
        <p:spPr>
          <a:xfrm>
            <a:off x="420840" y="5300640"/>
            <a:ext cx="1217520" cy="1216080"/>
          </a:xfrm>
          <a:prstGeom prst="pie">
            <a:avLst/>
          </a:prstGeom>
          <a:solidFill>
            <a:srgbClr val="5bbaf6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Дефицит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Трапеция 13"/>
          <p:cNvSpPr/>
          <p:nvPr/>
        </p:nvSpPr>
        <p:spPr>
          <a:xfrm>
            <a:off x="4678200" y="5300640"/>
            <a:ext cx="1221120" cy="1216080"/>
          </a:xfrm>
          <a:prstGeom prst="pie">
            <a:avLst/>
          </a:prstGeom>
          <a:solidFill>
            <a:srgbClr val="5bbaf6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Профици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539640" y="3618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Исполнения бюджета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2020год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755640" y="1714680"/>
          <a:ext cx="7140600" cy="4082760"/>
        </p:xfrm>
        <a:graphic>
          <a:graphicData uri="http://schemas.openxmlformats.org/drawingml/2006/table">
            <a:tbl>
              <a:tblPr/>
              <a:tblGrid>
                <a:gridCol w="4905360"/>
                <a:gridCol w="2235240"/>
              </a:tblGrid>
              <a:tr h="400320">
                <a:tc>
                  <a:txBody>
                    <a:bodyPr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3366"/>
                          </a:solidFill>
                          <a:latin typeface="Times New Roman"/>
                          <a:ea typeface="Microsoft YaHei"/>
                        </a:rPr>
                        <a:t>(тыс. рублей)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, в т.ч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4,3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2,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и на совокупный дох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72,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и на имущество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587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 (работ) и компенсации затрат государств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9" name="Picture 23" descr=""/>
          <p:cNvPicPr/>
          <p:nvPr/>
        </p:nvPicPr>
        <p:blipFill>
          <a:blip r:embed="rId1"/>
          <a:stretch/>
        </p:blipFill>
        <p:spPr>
          <a:xfrm>
            <a:off x="1500120" y="1071720"/>
            <a:ext cx="6624720" cy="48564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0" y="189000"/>
            <a:ext cx="9144000" cy="1008000"/>
          </a:xfrm>
          <a:prstGeom prst="rect">
            <a:avLst/>
          </a:prstGeom>
          <a:solidFill>
            <a:srgbClr val="05e0db"/>
          </a:solidFill>
          <a:ln w="15840">
            <a:solidFill>
              <a:srgbClr val="0273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Безвозмездные поступления бюджета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за 2020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324000" y="1413000"/>
            <a:ext cx="3240000" cy="9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Дотация 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- предоставляются без определения конкретной цели их использования;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Прямоугольник 4"/>
          <p:cNvSpPr/>
          <p:nvPr/>
        </p:nvSpPr>
        <p:spPr>
          <a:xfrm>
            <a:off x="160200" y="2448000"/>
            <a:ext cx="3816360" cy="99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Субсидия 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- предоставляются на финансирование «переданных» другим публично – правовым образованиям полномочий;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Прямоугольник 5"/>
          <p:cNvSpPr/>
          <p:nvPr/>
        </p:nvSpPr>
        <p:spPr>
          <a:xfrm>
            <a:off x="160200" y="3603600"/>
            <a:ext cx="3672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Субвенция 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- предоставляются на условиях долевого софинансирования расходов других бюджетов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Стрелка вправо 6"/>
          <p:cNvSpPr/>
          <p:nvPr/>
        </p:nvSpPr>
        <p:spPr>
          <a:xfrm>
            <a:off x="3895560" y="1539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Стрелка вправо 8"/>
          <p:cNvSpPr/>
          <p:nvPr/>
        </p:nvSpPr>
        <p:spPr>
          <a:xfrm>
            <a:off x="4162320" y="245916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Стрелка вправо 9"/>
          <p:cNvSpPr/>
          <p:nvPr/>
        </p:nvSpPr>
        <p:spPr>
          <a:xfrm>
            <a:off x="4035600" y="36385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Блок-схема: перфолента 11"/>
          <p:cNvSpPr/>
          <p:nvPr/>
        </p:nvSpPr>
        <p:spPr>
          <a:xfrm>
            <a:off x="5979960" y="1379520"/>
            <a:ext cx="1943280" cy="64440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1432,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Блок-схема: перфолента 12"/>
          <p:cNvSpPr/>
          <p:nvPr/>
        </p:nvSpPr>
        <p:spPr>
          <a:xfrm>
            <a:off x="5883120" y="2298600"/>
            <a:ext cx="1584360" cy="64476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1188,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Блок-схема: перфолента 13"/>
          <p:cNvSpPr/>
          <p:nvPr/>
        </p:nvSpPr>
        <p:spPr>
          <a:xfrm>
            <a:off x="6222960" y="3382920"/>
            <a:ext cx="1440000" cy="44136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86,8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Блок-схема: перфолента 14"/>
          <p:cNvSpPr/>
          <p:nvPr/>
        </p:nvSpPr>
        <p:spPr>
          <a:xfrm>
            <a:off x="5065560" y="6053040"/>
            <a:ext cx="3754440" cy="689040"/>
          </a:xfrm>
          <a:prstGeom prst="flowChartPunchedTape">
            <a:avLst/>
          </a:prstGeom>
          <a:solidFill>
            <a:srgbClr val="05e0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Итого: 3294,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Блок-схема: процесс 15"/>
          <p:cNvSpPr/>
          <p:nvPr/>
        </p:nvSpPr>
        <p:spPr>
          <a:xfrm>
            <a:off x="69840" y="4643280"/>
            <a:ext cx="3672000" cy="61308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Иные межбюджетные трансферты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Стрелка вправо 17"/>
          <p:cNvSpPr/>
          <p:nvPr/>
        </p:nvSpPr>
        <p:spPr>
          <a:xfrm>
            <a:off x="4334040" y="467676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Блок-схема: перфолента 19"/>
          <p:cNvSpPr/>
          <p:nvPr/>
        </p:nvSpPr>
        <p:spPr>
          <a:xfrm>
            <a:off x="5556240" y="4357800"/>
            <a:ext cx="2238480" cy="80460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587,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108000" y="0"/>
            <a:ext cx="8712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бюджета Александровскогосельсовета  по основным направлениям исполнения расходов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 2020год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60" descr=""/>
          <p:cNvPicPr/>
          <p:nvPr/>
        </p:nvPicPr>
        <p:blipFill>
          <a:blip r:embed="rId1"/>
          <a:stretch/>
        </p:blipFill>
        <p:spPr>
          <a:xfrm>
            <a:off x="7174080" y="920880"/>
            <a:ext cx="1441440" cy="1969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2" descr=""/>
          <p:cNvPicPr/>
          <p:nvPr/>
        </p:nvPicPr>
        <p:blipFill>
          <a:blip r:embed="rId2"/>
          <a:stretch/>
        </p:blipFill>
        <p:spPr>
          <a:xfrm>
            <a:off x="5724360" y="2139840"/>
            <a:ext cx="1192320" cy="7826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3" descr=""/>
          <p:cNvPicPr/>
          <p:nvPr/>
        </p:nvPicPr>
        <p:blipFill>
          <a:blip r:embed="rId3"/>
          <a:stretch/>
        </p:blipFill>
        <p:spPr>
          <a:xfrm>
            <a:off x="6615000" y="2924280"/>
            <a:ext cx="604800" cy="531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4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719280" cy="704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5" descr=""/>
          <p:cNvPicPr/>
          <p:nvPr/>
        </p:nvPicPr>
        <p:blipFill>
          <a:blip r:embed="rId5"/>
          <a:stretch/>
        </p:blipFill>
        <p:spPr>
          <a:xfrm>
            <a:off x="6675480" y="3817800"/>
            <a:ext cx="736560" cy="633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6" descr=""/>
          <p:cNvPicPr/>
          <p:nvPr/>
        </p:nvPicPr>
        <p:blipFill>
          <a:blip r:embed="rId6"/>
          <a:stretch/>
        </p:blipFill>
        <p:spPr>
          <a:xfrm>
            <a:off x="5796000" y="4387680"/>
            <a:ext cx="647640" cy="520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7" descr=""/>
          <p:cNvPicPr/>
          <p:nvPr/>
        </p:nvPicPr>
        <p:blipFill>
          <a:blip r:embed="rId7"/>
          <a:stretch/>
        </p:blipFill>
        <p:spPr>
          <a:xfrm>
            <a:off x="5719680" y="5157720"/>
            <a:ext cx="955800" cy="530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8" descr=""/>
          <p:cNvPicPr/>
          <p:nvPr/>
        </p:nvPicPr>
        <p:blipFill>
          <a:blip r:embed="rId8"/>
          <a:stretch/>
        </p:blipFill>
        <p:spPr>
          <a:xfrm>
            <a:off x="6059520" y="5950080"/>
            <a:ext cx="1114560" cy="5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468360" y="1071720"/>
          <a:ext cx="5183280" cy="5025960"/>
        </p:xfrm>
        <a:graphic>
          <a:graphicData uri="http://schemas.openxmlformats.org/drawingml/2006/table">
            <a:tbl>
              <a:tblPr/>
              <a:tblGrid>
                <a:gridCol w="576360"/>
                <a:gridCol w="2158920"/>
                <a:gridCol w="244800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019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89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8265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97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4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264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9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6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91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9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01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59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4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610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0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937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37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545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81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531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Заголовок 4"/>
          <p:cNvGrpSpPr/>
          <p:nvPr/>
        </p:nvGrpSpPr>
        <p:grpSpPr>
          <a:xfrm>
            <a:off x="457200" y="334800"/>
            <a:ext cx="8229600" cy="1256040"/>
            <a:chOff x="457200" y="334800"/>
            <a:chExt cx="8229600" cy="1256040"/>
          </a:xfrm>
        </p:grpSpPr>
        <p:pic>
          <p:nvPicPr>
            <p:cNvPr id="405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457200" y="334800"/>
              <a:ext cx="822960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57200" y="338040"/>
              <a:ext cx="82296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ndara"/>
                </a:rPr>
                <a:t>Исполнения</a:t>
              </a:r>
              <a:br>
                <a:rPr sz="1200"/>
              </a:br>
              <a:r>
                <a:rPr b="1" lang="ru-RU" sz="1200" spc="-1" strike="noStrike">
                  <a:solidFill>
                    <a:srgbClr val="000000"/>
                  </a:solidFill>
                  <a:latin typeface="Candara"/>
                </a:rPr>
                <a:t>Муниципальной  программы «Энергосбережение и повышение энергетической эффективности в муниципальном образовании «Александровский сельсовет» Советского района Курской области» за 2020 год</a:t>
              </a:r>
              <a:br>
                <a:rPr sz="1200"/>
              </a:b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7" name="Picture 5" descr="C:\Users\Irina\Desktop\почта\064 (2).jpg"/>
          <p:cNvPicPr/>
          <p:nvPr/>
        </p:nvPicPr>
        <p:blipFill>
          <a:blip r:embed="rId2"/>
          <a:stretch/>
        </p:blipFill>
        <p:spPr>
          <a:xfrm>
            <a:off x="539640" y="1916280"/>
            <a:ext cx="4505400" cy="3184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C:\Users\Irina\Desktop\почта\064 (1).jpg"/>
          <p:cNvPicPr/>
          <p:nvPr/>
        </p:nvPicPr>
        <p:blipFill>
          <a:blip r:embed="rId3"/>
          <a:stretch/>
        </p:blipFill>
        <p:spPr>
          <a:xfrm>
            <a:off x="539640" y="1916280"/>
            <a:ext cx="4505400" cy="31842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C:\Users\Irina\Desktop\почта\064.jpg"/>
          <p:cNvPicPr/>
          <p:nvPr/>
        </p:nvPicPr>
        <p:blipFill>
          <a:blip r:embed="rId4"/>
          <a:stretch/>
        </p:blipFill>
        <p:spPr>
          <a:xfrm>
            <a:off x="0" y="1989000"/>
            <a:ext cx="4505400" cy="31845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с двумя вырезанными соседними углами 1"/>
          <p:cNvSpPr/>
          <p:nvPr/>
        </p:nvSpPr>
        <p:spPr>
          <a:xfrm>
            <a:off x="5508720" y="2276640"/>
            <a:ext cx="3166920" cy="143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Исполн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в 2020году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1,0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Блок-схема: процесс 2"/>
          <p:cNvSpPr/>
          <p:nvPr/>
        </p:nvSpPr>
        <p:spPr>
          <a:xfrm>
            <a:off x="4387680" y="4200480"/>
            <a:ext cx="4730760" cy="23241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улучшение качества жизни и благосостояния населения Александровского сельсовета Советского район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совершенствование нормативных и правовых условий для поддержки энергосбережения и повышения энергетической эффективности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лимитированные и нормирование энергопотребления в бюджетной сфере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широкая пропаганда энергосбережения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повышение эффективности использования энергетических ресурсов Александровского сельсовета Советского района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снижение финансовой нагрузки на бюджет за счет сокращения платежей за  воду, топливо и электрическую энергию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>user</dc:creator>
  <dc:description/>
  <dc:language>en-US</dc:language>
  <cp:lastModifiedBy>Наталья Наталья</cp:lastModifiedBy>
  <dcterms:modified xsi:type="dcterms:W3CDTF">2022-03-04T06:29:47Z</dcterms:modified>
  <cp:revision>550</cp:revision>
  <dc:subject/>
  <dc:title>Слайд 1</dc:title>
</cp:coreProperties>
</file>